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BE616-6EC5-4199-B247-EE331D6FD4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other metrics available on the Hibernate statistics MBean. This is only recording one piece of inforrmation, the EntityInsertCou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ailability metric is required to define a service, since Hibernate doesn’t have an availability setting, I used the deployer’s status like some other services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total, updated hq-plugin.xml for the JBoss Plugin is below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name="jboss" class="JBossProductPlugi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np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common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jsr77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all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log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mx-rmi-connector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system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jmx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default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minima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al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dom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appended to each template by MeasurementInfoXML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template-confi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ava.naming.provider.url=%java.naming.provider.ur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TxManag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:service=TransactionManage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JMSMessageCach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:service=Message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anagement.local:name=%ejb.name%,J2EEServer=Local,J2EEApplication=%j2ee.application%,EJBModule=%ejb.jar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Servic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2ee:jndiName=%ejb.name%,service=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Pool" value="${EJBService},plugin=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Cache" value="${EJBService},plugin=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ObjectName properties used in the control plugin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MS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.destination:service=Queue,name=%jms.destination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CAConnectio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ca:service=ManagedConnectionPool,name=%jca.connpoo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Entity Insert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Hibernate:type=statistics: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ServerInfo metric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Group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Group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Free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Free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Total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Max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transaction manager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Activ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Transa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Commit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mm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Commi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Rolledbac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Rollback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Rollback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Current Memory 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Memory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gh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High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ax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MS Destinatio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in 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QueueDepth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ceivers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Receivers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CA Connection Pool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in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in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otal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le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le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Crea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re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Destroy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Destroy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e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assi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ed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ool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Receiv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ssag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note that the templates are not exactly the sa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boss 4.0 changed the case of some attribute nam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JBoss4MeasurementPlugin.translate method makes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justments. 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" include="JBoss 3.2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MS Destinatio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CA Connection 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less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less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ful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ful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Entity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Entity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Message Drive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Message Drive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head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b&gt;jboss.installpath&lt;/b&gt; must be configured in agent.properti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example:&lt;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e&gt;   jboss.installpath=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foot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r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name="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ja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Module (JAR)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2ee.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2EE 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3.2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Application Serv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atforms="Unix,Win3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ava.naming.provider.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Naming Provider 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jnp://localhost:1099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autoinvent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Detecto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Server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/**/server/*/conf/jboss-service.xm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Hibernate" description="Hibernate statistics" 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Hibernat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MS Destination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ms.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MS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removeAllMessages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CA Connection Pool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ca.con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CA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4.0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4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lugi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just the important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B12F182C-5E8F-452A-8759-C419CC5300DC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ibernate.org/216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lug-ins and the PD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900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metric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ce the following in hq-plugin.xml with the metric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oks for an MBean registered as “Hibernate:type=statistics” with a property of “EntityInsertCount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s name="Hibernate"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Entity Insert 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Hibernate:type=statistics: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THROUGHPU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non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jboss.system:service=MainDeployer:StateString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percentag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servi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95080" y="117936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dd the service definition to the JBoss Server setu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service name="Hibernate"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include name="Hibernate"/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service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ul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42064" t="40602" r="17946" b="46088"/>
          <a:stretch/>
        </p:blipFill>
        <p:spPr>
          <a:xfrm>
            <a:off x="380880" y="4473720"/>
            <a:ext cx="8304480" cy="1774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95440" y="1185840"/>
            <a:ext cx="800100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352080" indent="-3520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ce deployed, the JBoss plug-in will be able to auto-inventory your Hibernate statistics MBe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will see a new service type in the services drop-down of Hibern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Entity insert count will be recorded regularly as any other metr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rough this system, any custom MBean deployment can be integrated into the EM platform to provide detailed metrics, customized control and availability information without new develop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ustomiz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bernate examp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s are self-contained jar files deployed on both the server and agent si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sist of implementations of the PDK (Plugin Development Kit)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 hq-plugin.xml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erver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server reads metadata from a plug-in to gather inventory stru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s, servers and servi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detai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Where to read from and what property to re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type of data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ation settings for a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 oper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executes the plug-in implementation of the following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 (metric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 and discove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ponse tim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other plug-in types and their implementations in XML (hq-plugin.xml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MeasurementPlugin.getValue to retrieve metrics declar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ControlPlugin.doAction to implement operation defin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ServerDetector.discoverServi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XML sec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asspath – what libraries are needed by the plug-i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lter – variable replacement based on service nam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– defines groups of metrics that may be monitor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er – defines a server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ice – defines a service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plug-in featur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plug-in supports generic JMX access within a JBoss insta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numeric JMX property can be read and stored as a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JMX operation with no arguments can be called as an 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search running processes and the files system to auto-detect JBo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only connect to homogenous JBoss versions from a single agent/plug-in insta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xtend the JBoss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e will monitor the Hibernate statistics MBe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an application using Hibernate that creates and registers the statistics features (</a:t>
            </a: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hibernate.org/216.htm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updating the jboss-plugin.jar in both the server and the agent deploy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ghinkle</cp:lastModifiedBy>
  <dcterms:modified xsi:type="dcterms:W3CDTF">2005-07-13T08:33:53Z</dcterms:modified>
  <cp:revision>45</cp:revision>
  <dc:subject/>
  <dc:title>JBN Enterprise Management</dc:title>
</cp:coreProperties>
</file>