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7E37C-9FCD-4023-A88C-CF92E73222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’ll be doing the power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greg and I will be assisting you with the l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C631A677-2488-4DC0-A56F-01F8197CED26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N the Road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ing – Jan/Feb 200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harles Crouch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d open source admin conso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eg Hinkle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d of numerous open source project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MC4J, JarJunkie, Carbon and Chir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37160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ohn Mazzitelli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aterial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veryone should have a C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rom the CD you will need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inary JBoss Operations Network distribution for the O/S you are runn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.pdf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py the files to a temporary directory on your laptop, but *DON’T* start installing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31112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overvie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architecture and feature-se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installation and configur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ea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Portal overvie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itoring JBoss AS with JBoss 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John Mazzitelli</cp:lastModifiedBy>
  <dcterms:modified xsi:type="dcterms:W3CDTF">2006-01-20T18:54:51Z</dcterms:modified>
  <cp:revision>80</cp:revision>
  <dc:subject/>
  <dc:title>JBN Enterprise Management</dc:title>
</cp:coreProperties>
</file>