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1A35-0710-4B8D-9CDA-5ED7B215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3402-DFC3-4DA8-8035-4E2A185C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70E9-44BB-4DFD-A8B1-B25C191AB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A85B-D255-40CC-A524-D02875C8F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A27F-1B78-4BA6-9BEB-70E89F41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5608-63B4-4B97-BD25-F6B4A917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F34F-A94F-4091-AE60-88AFE21A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EF7E-2C8A-4D12-A6B9-0D673993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611F-F03E-4818-932E-5BCFE6B3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3E5B-B38B-4DDD-8632-CF955440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BBBF-EC5F-4B0F-8FB8-AF4BAC1D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C599-2E65-4908-BF12-3090A43B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0630-7671-479C-9B84-EE95420E9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Zeb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routing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Magic Labs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dae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ing service arou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routing table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istribute routing information between different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DEL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INTERFACE_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IP Version1, 2  RIPng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G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flap dam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OSPFd and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time to develop other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aemon has their own terminal interface and configuration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(for *BSD),RIPd,BGPd(dump only)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ML                                 &lt;zebra@digital-magic.co.jp&gt;                           for subscription please write to           &lt;zebra-request@digital-magic.co.j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Home Page              http://zebra.digital-magic.co.jp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Zebr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distributed multi-server multi-thread routing soft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free software distributed under G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Modularity,extensibility,maint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t provides user level packet forwarding table when working with GNU Hu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do we need yet anoth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ting softwa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er development softwar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ernel routing table update and redistribution between different protocols are provided by zebra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ther daemons are for protocol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Easy to add a new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GP route server and route reflector are integrated into BG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multiple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ncreases modularity, extensibility, maintain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lows incremental development of a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add a new protocol without changing other sourc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easy to 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servers can be s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nter process communication V.S. intra process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kernel routing table updates and redistribution would be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Authentic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Zebra architecture on GNU Hu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2895480"/>
            <a:ext cx="9903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fi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9400" y="3429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440" y="34290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640" y="33526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4114800"/>
            <a:ext cx="99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952880"/>
            <a:ext cx="59436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33412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010280" y="2209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209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01992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362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292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9400" y="3429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19112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146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2360" y="3276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2360" y="39625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ser lev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IP Address  (and destination) based policy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interface routing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much more idea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876920"/>
            <a:ext cx="9907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5638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6095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038480" y="441972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76920" y="4419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31T16:02:06Z</dcterms:created>
  <dc:creator>Digital Magic Labs, Inc.</dc:creator>
  <dc:description/>
  <dc:language>en-US</dc:language>
  <cp:lastModifiedBy>Digital Magic Labs, Inc.</cp:lastModifiedBy>
  <dcterms:modified xsi:type="dcterms:W3CDTF">1997-06-08T12:35:31Z</dcterms:modified>
  <cp:revision>13</cp:revision>
  <dc:subject/>
  <dc:title>The Zebra Distributed routing system</dc:title>
</cp:coreProperties>
</file>