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59E182-1228-47F4-8DFE-B30847868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F09E63-CE23-45AD-9214-D16166C31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EDED4E-BCF7-40B4-B000-F2DCC4985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43FCD2-DD06-4DC2-B8A5-0E776E236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DED9D-A6C9-4CF1-8946-84802C8A9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61627-331E-4B7A-BC0B-D8E929CC5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3A130-F624-41F5-A2DF-96C1C2612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844CA-E369-4AEC-915D-1EB7EC491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02A6C-1F74-470A-B6E9-87C8FDC58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94901-38ED-4CCD-9D29-46BA93359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44A60-6970-4578-8FFF-F628BC75A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7AB5FD-C71C-447F-AD43-ABA71BA29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33F35-2997-4BC7-9FE9-7E9E168F4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AE4DA-11FD-4827-97A7-350EB4C05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8078F-4144-4EC0-8FCF-1465F03DF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DF693-BA3D-48C0-BCEB-29416C325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B70BA-3167-4A29-9AB1-4C1194475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A5D648-D937-45E8-AC93-F61297214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069F34-9920-4C9E-8858-2F415B18E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35D793-3EB7-42ED-9920-8A692EA31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8667C7-FD14-47EF-BB04-A3775473B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6517FA-20B1-46C9-B21F-7F9FA3B8D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09BD25-7192-4086-9C97-6975F57F9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13B58E-5188-4873-8F17-3250DB9F9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E4AB5-2028-4FD4-B03C-CB1CDD7BBBD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68503-DA7D-43DB-8A9A-94FDF6832A5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59280" y="1699920"/>
            <a:ext cx="5324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300" spc="-1" strike="noStrike">
                <a:solidFill>
                  <a:srgbClr val="ffffff"/>
                </a:solidFill>
                <a:latin typeface="Arial"/>
              </a:rPr>
              <a:t>LCCS</a:t>
            </a:r>
            <a:endParaRPr b="0" lang="en-US" sz="6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400" spc="-1" strike="noStrike">
                <a:solidFill>
                  <a:srgbClr val="000000"/>
                </a:solidFill>
                <a:latin typeface="Arial"/>
              </a:rPr>
              <a:t>A Pure Tcl/Tk Train Traffic Supervision System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95280" y="765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000000"/>
                </a:solidFill>
                <a:latin typeface="Arial"/>
              </a:rPr>
              <a:t>Reading synoptic and configuration</a:t>
            </a:r>
            <a:br>
              <a:rPr sz="4000"/>
            </a:b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The importance of safe interpreters</a:t>
            </a: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3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Without safe interpre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Applications which source configuration files can not be trusted to run in a realistic scenar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We would have to write our own input process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With safe interpre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Implementing a specialised parser is straightforwar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987640" y="2276640"/>
            <a:ext cx="5905440" cy="424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proc Config::Colors {file}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proc set_color { object color }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global COL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set object [string tolower $object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set COLORS($object) $col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set parser [interp create -safe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$parser hide 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$parser alias set Config::set_col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SafeSource $parser $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interp delete $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rename set_color {}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# Load The Configu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Config::Colors [file join $ETC Colors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Config::Scales [file join $ETC Scales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Config::LanguageStrings [file join $ETC Language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# Load Synop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Config::Synoptic $canvas [file join $ETC global Synoptic]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Synoptic description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546440" cy="447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Railway synopt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include global/Seg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include global/Sca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Rail circu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      id        segments        variable    lab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cdv C1-AM   {seg1}                 A001   "C1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cdv C3-AM   {seg3}                 A003   "C3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cdv C5-AM   {seg5a seg5b}     A005   "C5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cdv C7-AM   {seg7a seg7b}     A007   "C7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cdv C9-AM   {seg9}                  A009   "C9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cdv C11-AM {seg11a seg11b} A012  "C11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cdv C13-AM {seg13}                A013  "C12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Trafic l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  id          coordinates    anchor    variable   lab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2 M1-AM {3500 8700}  {top left}     A014     "M1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2 M3-AM {9000 8700}  {top right}   A015     "M3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b SB-AM {11400 8700} {top left}    B016     "SB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4 S5-AM {11000 8700} {top left}     A016     "S5"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067280" y="1484280"/>
            <a:ext cx="4535280" cy="3382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Via ascendent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1 {{2000 8500} {3500 850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3 {{3562 8500} {5000 850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5a {{5062 8500} {7000 850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5b {{7000 8500} {6500 8500} {6040 804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7a {{7062 8500} {9000 850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7b {{7062 8500} {7500 8500} {7960 804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9 {{9062 8500} {11000 850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11a {{11062 8500} {13000 850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11b {{11062 8500} {11500 8500} {11960 804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13 {{13062 8500} {14500 850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101 {{14562 8500} {16000 850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767120" y="4960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064200" y="50324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867280" y="4076640"/>
            <a:ext cx="3097440" cy="1609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Scales 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Xscale 0.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Yscale -0.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Configuration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0920" y="1484280"/>
            <a:ext cx="6048360" cy="504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Valid color names:BGROUND FGROUND CDVFREE CDVOCUP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CAISCOLOR TEXTCOLOR WARNCOLOR ERROCOLOR CANLCOL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OKCOLOR INATCOLOR BLUNAR VIOLET ROUGE VE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Synoptic col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DVFREE "#fffff916dced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DVOCUP "#f80f13f84000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BGROUND "#000000000000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FGROUND "#dceddceddced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AISCOLOR "#a6a7a6a7a6a7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TEXTCOLOR "#ffffffffffff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WARNCOLOR "#ffc0ffff845a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ERROCOLOR "#f80f14183fdd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ANLCOLOR "#f80f14183fdd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OKCOLOR   "#4854cc074320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INATCOLOR "#edededededed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Trafic light col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WLUNAR "#fffffa5cec49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VIOLET "#950b0000d3b5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RED    "#ffff0000424e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GREEN  "#0000efde0000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771640" y="1989000"/>
            <a:ext cx="410544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Language 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LANGUAGE portugu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356000" y="1700280"/>
            <a:ext cx="4537080" cy="496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Strings.portuguese 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AM2 "ALAMEDA 2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OL  "OLAIAS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BV  "BELA VISTA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H  "CHELAS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R  "CABO RUIVO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OS  "OLIVAIS SUL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OR  "ORIENTE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OK      "Confirmar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ANCEL  "Cancelar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EXIT    "Sair"</a:t>
            </a: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DV     "CDV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OMC    "Comando central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OML    "Comando local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IT      "Itinerários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IA      "Itinerários automáticos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IP      "Itinerários permanentes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BS      "Bloqueio de saída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OMERR "Erro de comunicação com o MicroLok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Reflection, code gene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The synoptic is generated together with the code which will implement its function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For the small synoptic presented here &gt;50% of automaticaly generated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For large synoptics can go up to ~99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1116000" y="2276640"/>
            <a:ext cx="2087640" cy="309708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ff"/>
                </a:solidFill>
                <a:latin typeface="Arial"/>
              </a:rPr>
              <a:t>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Code generation</a:t>
            </a:r>
            <a:br>
              <a:rPr sz="4400"/>
            </a:br>
            <a:r>
              <a:rPr b="0" lang="pt-PT" sz="3600" spc="-1" strike="noStrike">
                <a:solidFill>
                  <a:srgbClr val="000000"/>
                </a:solidFill>
                <a:latin typeface="Arial"/>
              </a:rPr>
              <a:t>How hard is to write cod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773440" y="2781360"/>
            <a:ext cx="431640" cy="2592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ff"/>
                </a:solidFill>
                <a:latin typeface="Arial"/>
              </a:rPr>
              <a:t>code generating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276720" y="2276640"/>
            <a:ext cx="4897440" cy="433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76720" y="2781360"/>
            <a:ext cx="4897440" cy="259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dinamicaly generated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1692360" y="5734080"/>
            <a:ext cx="5904000" cy="309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60" name=""/>
          <p:cNvSpPr/>
          <p:nvPr/>
        </p:nvSpPr>
        <p:spPr>
          <a:xfrm>
            <a:off x="3783240" y="6165720"/>
            <a:ext cx="175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Hardness sc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550160" y="609300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Hard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877080" y="6093000"/>
            <a:ext cx="85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soft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Cool Tcl/Tk fea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Tcl fine control of its slave interpre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Code and data share the same re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Tk supports complex GUIs and megawidgets as well as the </a:t>
            </a:r>
            <a:r>
              <a:rPr b="1" lang="pt-PT" sz="3200" spc="-1" strike="noStrike">
                <a:solidFill>
                  <a:srgbClr val="000000"/>
                </a:solidFill>
                <a:latin typeface="Arial"/>
              </a:rPr>
              <a:t>simplest, and ugliest conceivable GU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611280" y="24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8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About LC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rain Traffic Supervision: what they are and how they look lik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e LCCS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Reading synoptic description and configu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Reflection, code gen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e Tcl/Tk features I like m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About LC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Is a local train traffic supervision soft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LCCS stands for </a:t>
            </a:r>
            <a:r>
              <a:rPr b="0" i="1" lang="pt-PT" sz="2400" spc="-1" strike="noStrike">
                <a:solidFill>
                  <a:srgbClr val="000000"/>
                </a:solidFill>
                <a:latin typeface="Arial"/>
              </a:rPr>
              <a:t>Local Control Computer Soft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Was developed by J.Lima and J.Rocha to the Lisbon Underground Train Compa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Demonstrate the feasibility of the entire Train Trafic supervision and control software using Tcl/T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Replace the obsolete system just being install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e idea was supported by the engineering team and by the oper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However, it was rejected by the manag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For what is used fo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Supervise the railway 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Interact at the operational level: granting or defering a train depar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Redefine the itineraires </a:t>
            </a: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(source, destination and pat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Manualy conducting manouvers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Perform abnormal condition recovering proced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The driver crossed the boundary of a forbiden z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A train is malfunctio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How they look lik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LCCs are based on Workstations or PCs. However, they work much like embedded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We don’t want operators playing solitair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X11 session will launch a single full screen application (no window manag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No further control is granted to the oper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The system must be capable of recovering from software errors – should have no history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One word about safe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In railway systems safety and functionality are handled separatel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e operational/supervision software handles function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e PLC hardware handles the all safety 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332000" y="1413000"/>
            <a:ext cx="6594480" cy="4883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611280" y="620640"/>
            <a:ext cx="7921440" cy="583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iginal Id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l/Tk GU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dicated canvas for the synop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sions for communication with the PL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ything coded in Tc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ynoptic; the communication modu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nfiguration can be TCL as w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n the communication protocols are forms of TC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11280" y="1700280"/>
            <a:ext cx="7848360" cy="19447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900000" y="1773000"/>
            <a:ext cx="6696360" cy="18716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The Tcl Or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692360" y="2060640"/>
            <a:ext cx="5759280" cy="383364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395280" y="1484280"/>
            <a:ext cx="1440000" cy="936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Tcl confi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68360" y="4941720"/>
            <a:ext cx="2016000" cy="1440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programs cod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in bare 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372360" y="4581360"/>
            <a:ext cx="2520720" cy="165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messag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exchang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between proc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are in 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308720" y="2637000"/>
            <a:ext cx="1657440" cy="1008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IO is als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a form of 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2050920" y="5013000"/>
            <a:ext cx="649440" cy="144360"/>
          </a:xfrm>
          <a:prstGeom prst="line">
            <a:avLst/>
          </a:prstGeom>
          <a:ln w="381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2050920" y="3357720"/>
            <a:ext cx="505080" cy="1800000"/>
          </a:xfrm>
          <a:prstGeom prst="line">
            <a:avLst/>
          </a:prstGeom>
          <a:ln w="381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2050920" y="3789000"/>
            <a:ext cx="2233800" cy="1368360"/>
          </a:xfrm>
          <a:prstGeom prst="line">
            <a:avLst/>
          </a:prstGeom>
          <a:ln w="381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3640" y="1989000"/>
            <a:ext cx="1152720" cy="287640"/>
          </a:xfrm>
          <a:prstGeom prst="line">
            <a:avLst/>
          </a:prstGeom>
          <a:ln w="381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3059280" y="4149720"/>
            <a:ext cx="3528720" cy="1008000"/>
          </a:xfrm>
          <a:prstGeom prst="line">
            <a:avLst/>
          </a:prstGeom>
          <a:ln w="381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5508720" y="4437000"/>
            <a:ext cx="1079280" cy="720720"/>
          </a:xfrm>
          <a:prstGeom prst="line">
            <a:avLst/>
          </a:prstGeom>
          <a:ln w="381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6732360" y="3357720"/>
            <a:ext cx="718920" cy="142560"/>
          </a:xfrm>
          <a:prstGeom prst="line">
            <a:avLst/>
          </a:prstGeom>
          <a:ln w="381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5T20:43:46Z</dcterms:created>
  <dc:creator>Nome de utilizador</dc:creator>
  <dc:description/>
  <dc:language>en-US</dc:language>
  <cp:lastModifiedBy>Nome de utilizador</cp:lastModifiedBy>
  <dcterms:modified xsi:type="dcterms:W3CDTF">2005-10-27T14:40:06Z</dcterms:modified>
  <cp:revision>12</cp:revision>
  <dc:subject/>
  <dc:title>Diapositivo 1</dc:title>
</cp:coreProperties>
</file>