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79625-D6C8-459A-9E08-B3A1B7AD0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B7F95-905F-496D-AC50-3FF44F9B9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FA5E4-BACC-4C30-8E39-4081FC232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42696-DA33-4E7F-A9A3-418A121AB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is in tro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have to decide how to so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06BA0-5EEF-417C-B32D-EF3386FD1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riter: how to synch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tool: similar too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6B74B-ACAC-44FE-9C28-EEFB39861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E458A-B798-4812-BC49-72972BBE2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C5AAF-5BD6-42DC-B987-137CE3ADE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C43A-4213-45FE-B98E-2FACB49E6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lso used in primary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F02E-3465-4BB2-B561-A97D6711B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1E4BF-DD75-4EBE-AF6F-E1E30E278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ifferent toolsets for experiment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rocess activities are stored in a log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file is split into files per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s are converted to a format suitable for ME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pa is a special purpose program for processing and analysing protoc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more about MEPA because it isn’t written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94B3B-9BE7-4BCC-B8EE-D2CEF35F4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s, not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7DEA-7950-41FC-B7A9-3ABC4E0C7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6E852-F244-494C-86F1-76F4B7BEC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ynamic loading mak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development and bugfixes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 made http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-platform is a wish, not a dem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7AC3E-57E6-49D7-9BED-910CE2F1A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clhttp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ttp is primary means of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irewa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7322040" y="6019920"/>
            <a:ext cx="1480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9FC99-DE29-4822-BDA0-0FC9DA0365CF}" type="slidenum">
              <a:rPr b="0" lang="en-GB" sz="16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/1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2743200" y="5334120"/>
            <a:ext cx="57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j.g.m.jaspers@uu.n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43200" y="1599840"/>
            <a:ext cx="57578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741760" y="230184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1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developme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666880" y="3124080"/>
            <a:ext cx="5257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Jos Jasp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Langeveld Research Centre Learning in Intera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Utrecht Univers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The Netherla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nchronis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stency, persisten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les or 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ne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YSIW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llusion of one cop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waren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i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usal relations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ulatio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s (to be develope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dar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igned to evaluate the participation of students in the assign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assess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 algn="ctr">
              <a:lnSpc>
                <a:spcPct val="101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Verdana"/>
              </a:rPr>
              <a:t>DEMO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’s fu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 go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ducational rele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ols for easier installation and mainten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acher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n sour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rov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41400" y="1619280"/>
            <a:ext cx="61736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w is the time to as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ail:  </a:t>
            </a:r>
            <a:r>
              <a:rPr b="0" lang="en-US" sz="2000" spc="-1" strike="noStrike" u="sng">
                <a:solidFill>
                  <a:srgbClr val="3a66ae"/>
                </a:solidFill>
                <a:uFillTx/>
                <a:latin typeface="Verdana"/>
                <a:hlinkClick r:id="rId1"/>
              </a:rPr>
              <a:t>j.g.m.jaspers@uu.n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edugate.fss.uu.nl/~crocicl/vcri_eng.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eval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mon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tual Collaborative Research Institu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ultiplatform groupware appl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rget ages of students 15-17 yea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nded for group assignments over longer periods (e.g. 10-15 hou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toolbox with  20 tools to support collabo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4" descr="VCRI-program"/>
          <p:cNvPicPr/>
          <p:nvPr/>
        </p:nvPicPr>
        <p:blipFill>
          <a:blip r:embed="rId1"/>
          <a:stretch/>
        </p:blipFill>
        <p:spPr>
          <a:xfrm>
            <a:off x="2906640" y="1619280"/>
            <a:ext cx="542772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CRI as a research tool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erent toolsets in different experimental condi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ging of ev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mated conversion of logs to MEPA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ple Episode Protocol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flexible program for the annotation of, coding of verbal or nonverbal observational data or protoco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develop a system for coding observational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alyze the coded verbal or non-verbal protocols with a variety of quantitative or qualitative metho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2741760" y="1619280"/>
            <a:ext cx="57578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ent/serv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al cli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mote sourcing/dynamic loa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unication via (secure) 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ever possible cross-platfor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Http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kit, Star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incr Tcl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OG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cel Broeken</dc:creator>
  <dc:description/>
  <cp:keywords>VCRI Tcl</cp:keywords>
  <dc:language>en-US</dc:language>
  <cp:lastModifiedBy>Auditorium</cp:lastModifiedBy>
  <dcterms:modified xsi:type="dcterms:W3CDTF">2008-06-06T08:49:28Z</dcterms:modified>
  <cp:revision>53</cp:revision>
  <dc:subject>VCRI</dc:subject>
  <dc:title>VCRI: Using shared visualisations for collabo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