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0243-E867-41D1-A32E-63AE90EA3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3171-E744-4B0A-833B-04815FF3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9645-A5AB-47F8-A1E5-F480573BD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5AAC-CDC7-4759-8F83-2DD60BE37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75BE-652F-442D-BE9E-15A4D1BD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6DB5-6296-4174-A49D-889A02EF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B4AF-9068-4D0B-B9D6-0129485D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DE2D-6189-461D-9C34-8A67FAD6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9C67-B9DB-480B-A8DE-3E5B34D2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E69D-2574-42A2-A9FC-ABF82178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1A7F-9E96-4F36-A3EB-A6D856D3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AE48-36DB-45CE-8833-A32AAE4D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F895-8EAE-4808-BE5F-64A341A60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dataserv.fis.fc.ul.pt/~jmal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000000"/>
                </a:solidFill>
                <a:latin typeface="Arial"/>
              </a:rPr>
              <a:t>CanvasPl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An Improved Modular Canvas implementation for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modetest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canvas_interp [.c setmode modetes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{create rectangle 10 10 130 60 -fill re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$canvas_interp eval $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[gets $f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load ./libCanvasPlus.so; load ./modetest.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C [canvas+ .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I [$C setmode modetes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I eval {set moving 0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Press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Release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Motion&gt; 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move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move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puts move $_I_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prevX $_X_; set prevY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picOrDrop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0; @puts dr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1; set prevX $_X_; set prevY $_Y_; @puts pic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RegisterInfo _info[]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puts", puts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rect", rect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elipse", arc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move", move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LAST_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ModeOps _operations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alloc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it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free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draw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losest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6748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2349360"/>
            <a:ext cx="705816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struct CP_RegisterInfo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proc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cl_ObjCmdProc *fun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cf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 CP_RegisterInf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lientData CP_AllocProc(CanvasPlus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int CP_InitProc(CP_Mode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FreeProc(Client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DrawProc(ClientData, CP_DrawOps *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Area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P_Item *CP_ClosestProc(ClientDa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Point *, dou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 ON “load ./setmode.so” IN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 Modetest_Init(Tcl_Interp *inter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f ( CPDefineMode("modetest1", _info,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&amp;_operations)!=TCL_OK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O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 ON “.c setmode &lt;modename&gt;” INV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nt CPSetMode(CanvasPlus *cPtr, Tcl_Obj *intName, Tcl_Obj *mode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Info *modeInf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 *mo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// Create and initialize mod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Info = CPFindMode(Tcl_GetString(modeNam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 = (CP_Mode *)ckalloc((size_t)sizeof(CP_Mod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tatic void drawProc(ClientData cd, CP_DrawOps *ops, CP_Area *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MStatus *status = (MStatus *)c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P_Item *item = status-&gt;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while (item !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Type type = (ItemType)item-&gt;client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ARC_ITEM: {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ArcItem *arc = (Arc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Elipse(ops-&gt;clientData, &amp;arc-&gt;limits,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RECT_ITEM: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RectItem *rect = (Rect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 &amp;rect-&gt;limits, CP_DRAW_FILL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&amp;rect-&gt;limits, 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 = item-&gt;nex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ems are managed by extension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nly the extension knows how to draw it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f an event needs to know some details about the item to be properly handled, the extension must register a h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core module keeps its own item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pecific data is refered by an opaque 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sed for tag managment and bind comm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tem mana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tensions make no assumptions about the device they are drawing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rawing is performed through the </a:t>
            </a:r>
            <a:r>
              <a:rPr b="1" lang="pt-PT" sz="3200" spc="-1" strike="noStrike">
                <a:solidFill>
                  <a:srgbClr val="000000"/>
                </a:solidFill>
                <a:latin typeface="Courier New"/>
              </a:rPr>
              <a:t>drawOps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insures portability between different platforms and different 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imensions used in extensions are physical meaningful and have no relation to pix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make the user aware of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rinting size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’s in alpha status, but it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 will be available soon...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pt-PT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kdataserv.fis.fc.ul.pt/~j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..it is available in my laptop, if you don’t want to wait until I find the time to update my web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jlima@eso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th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Tk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drawing possible but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 was not meant to handle complex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 through tagging helps creating relationships between items, but this alone doesn’t overcome all the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dvanced GUI libraries are available but ... they have no Tc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n alternative canvas for Tk, targetted for layered 2D drawing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n’t a replacement for the standard can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re supposed to be coded in C/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and GUI construction is supposed to be done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module: provides generic drawing operations; event disp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 applications specific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 parts fit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1289160"/>
            <a:ext cx="64818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n AP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ing primitives in a 2D layered canvas abs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delegating event handling: through hook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aningful coordina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output devices a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mless zoom, pan (for display dev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caling an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ssumptions about the items to be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Layered Can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work much like superimposed overhead projection sh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ach has its own appearence: color; trace and and area filling proper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can be hiden or shown individua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t is a simple concep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he layers are meaningful to broad class of drawing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traightforward and memory efficient implementation using X graphic contex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till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tly obso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till usefull for context help or context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agging code imported from standard Tk canva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What’s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concept of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operatio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subcommand approach is used only for few, very generic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ion with items is done using a slave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lave is returned by </a:t>
            </a:r>
            <a:r>
              <a:rPr b="1" lang="pt-PT" sz="2400" spc="-1" strike="noStrike">
                <a:solidFill>
                  <a:srgbClr val="000000"/>
                </a:solidFill>
                <a:latin typeface="Courier New"/>
              </a:rPr>
              <a:t>“.c setmode”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tate is accessible through global variables in the dedicated slave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tems can be much more complex than a simple rectangl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anvasPlus widget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c subcommand 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7080" y="2852640"/>
            <a:ext cx="7953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vailable subcommand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bind, cget, clearmode, configure, get, modes, p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redraw, setmode, xview, yview and z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7:05:43Z</dcterms:created>
  <dc:creator>Nome de utilizador</dc:creator>
  <dc:description/>
  <dc:language>en-US</dc:language>
  <cp:lastModifiedBy>Nome de utilizador</cp:lastModifiedBy>
  <dcterms:modified xsi:type="dcterms:W3CDTF">2005-10-26T18:06:36Z</dcterms:modified>
  <cp:revision>21</cp:revision>
  <dc:subject/>
  <dc:title>CanvasPlus</dc:title>
</cp:coreProperties>
</file>