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F9B53-F2A9-40A3-9DD5-03764C5A5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4E7A1-09E7-438D-9E83-FC7E124F8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20420-1A85-4798-A527-3D445CD25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CD9D6-FE02-4063-8429-3E1C553DB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5EB5A5-1783-4783-A3C0-40BD750ECA9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68400A-5599-4E66-ADC7-A114C970AE2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6FFF5E-85F4-4A61-A1C1-799D6289637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677F3D-FED5-4303-A66B-9FFA2ED715F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698B54-FE2C-42B2-9A7D-960DC0B3EE6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A2D3BC-F1DA-4A40-9FEC-13E4F26D252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E4D2FC-DB79-4073-A7CB-E89056AB282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F0606-EC87-402A-8F70-E0F236188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91E6CF-0F17-40B6-956F-FE15CB5DD59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723D38-A2FD-4D1C-83C2-BBF3F37DAC3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BCA14F-D008-440F-AF8F-58D4144F8B4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FFBD2E-D382-42BD-8F30-ED32F981DF5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3CEEF3-F1B1-4242-90AA-34FCC05C697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3A758-14C5-4D28-A4FB-7D793CDCA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F07E7-636B-48A8-BAC2-340D72586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DAA4D-9133-41FC-B82D-4FE01A235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9635E-B1AA-4A92-A380-F28B72D38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779B0-F85C-48BD-8C19-55FFAF7A5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F8404-F121-4A8E-A91A-3048B8AB3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DC006-2259-4599-AA4A-99524B919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0492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6F690-C7B9-4309-A90B-B4B0CA1515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8059680" y="76320"/>
            <a:ext cx="998640" cy="129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251460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637E4-C94C-47EC-AB86-37DD1C99EC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8145360" y="2209680"/>
            <a:ext cx="998640" cy="12956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iki.tcl.tk/3099.html" TargetMode="External"/><Relationship Id="rId2" Type="http://schemas.openxmlformats.org/officeDocument/2006/relationships/hyperlink" Target="http://wiki.tcl.tk/3099.html" TargetMode="External"/><Relationship Id="rId3" Type="http://schemas.openxmlformats.org/officeDocument/2006/relationships/hyperlink" Target="http://wiki.tcl.tk/3099.html" TargetMode="External"/><Relationship Id="rId4" Type="http://schemas.openxmlformats.org/officeDocument/2006/relationships/hyperlink" Target="http://wiki.tcl.tk/3099.html" TargetMode="External"/><Relationship Id="rId5" Type="http://schemas.openxmlformats.org/officeDocument/2006/relationships/hyperlink" Target="http://wiki.tcl.tk/3099.html" TargetMode="External"/><Relationship Id="rId6" Type="http://schemas.openxmlformats.org/officeDocument/2006/relationships/hyperlink" Target="http://wiki.tcl.tk/3099.html" TargetMode="External"/><Relationship Id="rId7" Type="http://schemas.openxmlformats.org/officeDocument/2006/relationships/hyperlink" Target="http://wiki.tcl.tk/3099.html" TargetMode="External"/><Relationship Id="rId8" Type="http://schemas.openxmlformats.org/officeDocument/2006/relationships/hyperlink" Target="http://www.tcl.tk/man/tcl8.4/" TargetMode="External"/><Relationship Id="rId9" Type="http://schemas.openxmlformats.org/officeDocument/2006/relationships/hyperlink" Target="http://www.tcl.tk/man/tcl8.4/" TargetMode="External"/><Relationship Id="rId10" Type="http://schemas.openxmlformats.org/officeDocument/2006/relationships/hyperlink" Target="http://www.tcl.tk/man/tcl8.4/" TargetMode="External"/><Relationship Id="rId11" Type="http://schemas.openxmlformats.org/officeDocument/2006/relationships/hyperlink" Target="http://www.tcl.tk/man/tcl8.4/" TargetMode="External"/><Relationship Id="rId12" Type="http://schemas.openxmlformats.org/officeDocument/2006/relationships/hyperlink" Target="http://www.tcl.tk/man/tcl8.4/" TargetMode="External"/><Relationship Id="rId1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tcl.tk/cgi-bin/tct/tip/" TargetMode="External"/><Relationship Id="rId2" Type="http://schemas.openxmlformats.org/officeDocument/2006/relationships/hyperlink" Target="http://www.tcl.tk/cgi-bin/tct/tip/" TargetMode="External"/><Relationship Id="rId3" Type="http://schemas.openxmlformats.org/officeDocument/2006/relationships/hyperlink" Target="http://www.tcl.tk/cgi-bin/tct/tip/" TargetMode="External"/><Relationship Id="rId4" Type="http://schemas.openxmlformats.org/officeDocument/2006/relationships/hyperlink" Target="http://www.tcl.tk/cgi-bin/tct/tip/" TargetMode="External"/><Relationship Id="rId5" Type="http://schemas.openxmlformats.org/officeDocument/2006/relationships/hyperlink" Target="http://www.tcl.tk/cgi-bin/tct/tip/" TargetMode="External"/><Relationship Id="rId6" Type="http://schemas.openxmlformats.org/officeDocument/2006/relationships/hyperlink" Target="http://www.tcl.tk/cgi-bin/tct/tip/" TargetMode="External"/><Relationship Id="rId7" Type="http://schemas.openxmlformats.org/officeDocument/2006/relationships/hyperlink" Target="http://www.tcl.tk/cgi-bin/tct/tip/" TargetMode="External"/><Relationship Id="rId8" Type="http://schemas.openxmlformats.org/officeDocument/2006/relationships/hyperlink" Target="http://www.tcl.tk/cgi-bin/tct/tip/" TargetMode="External"/><Relationship Id="rId9" Type="http://schemas.openxmlformats.org/officeDocument/2006/relationships/hyperlink" Target="http://www.tcl.tk/cgi-bin/tct/tip/" TargetMode="External"/><Relationship Id="rId10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iki.tcl.tk/1611.html" TargetMode="External"/><Relationship Id="rId2" Type="http://schemas.openxmlformats.org/officeDocument/2006/relationships/hyperlink" Target="http://wiki.tcl.tk/vfs" TargetMode="External"/><Relationship Id="rId3" Type="http://schemas.openxmlformats.org/officeDocument/2006/relationships/hyperlink" Target="http://wiki.tcl.tk/vfs" TargetMode="External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l 8.4 Overview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9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 Black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 Annual Tcl/Tk Confer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Jeff Hobb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ile’ enhancemen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rtual File Sy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ows hooks into all FS function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ll support for 64-bit file sizes on 32-bit operating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normali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separa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lin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test 2.0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Greatly enhanced ‘test’ comm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upports multiple error match typ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Runs multi-process for robustn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100% backwards compatible with v1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erial Port Contro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configu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rial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mod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aud,parity,data,stop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handshak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ype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queu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timeou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sec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ttycontro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gnalMap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ttystatu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xcha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harPair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pollinterva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sec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sysbuff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zeLi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configure -lasterr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64-bit “wide” integer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s int64 or long lo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 completely transparent 32/64-bit barri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r wide(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:tcl_platform(wordSiz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nary command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nary format wW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nary sca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tring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W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nged behavior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copy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respects encodings of its chann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ormat %l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likewise treat argument as wide inte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can %l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likewise no longer ignore the field width specif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urc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ats the byte 0x1a (^Z) as an EOF char on all platfo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ubs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at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reak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ntinu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ring command substitution different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cl_traceExe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cl_traceCompil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available with TCL_COMPILE_DEBUG buil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pdated ‘trace’ comman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ce ad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and rename | dele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ecution enter | leave | enterstep | leaveste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riable array | read | write | un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ce remo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ce inf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and tracing now possi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ld style trace command deprec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ormalized ‘memory’ comman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ful for debugging memory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quires compilation with TCL_MEM_DEBU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ac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in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onex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ta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ved memory displ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k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dget styling support (TIP #48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widg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gnificant widget enhanc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roved I18N and L10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oved XIM and IME sup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ll ?-nic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rst new feature of 8.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New Widge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pinbo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Builds on the entry widg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ast, feature rich and effici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panedwind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Part widget, part geometry mana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labelfr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eparate from frame to not bloat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6" name="labelframe" descr=""/>
          <p:cNvPicPr/>
          <p:nvPr/>
        </p:nvPicPr>
        <p:blipFill>
          <a:blip r:embed="rId1"/>
          <a:stretch/>
        </p:blipFill>
        <p:spPr>
          <a:xfrm>
            <a:off x="1143000" y="5257800"/>
            <a:ext cx="1393920" cy="1303200"/>
          </a:xfrm>
          <a:prstGeom prst="rect">
            <a:avLst/>
          </a:prstGeom>
          <a:ln w="0">
            <a:noFill/>
          </a:ln>
        </p:spPr>
      </p:pic>
      <p:pic>
        <p:nvPicPr>
          <p:cNvPr id="227" name="panedwindow" descr=""/>
          <p:cNvPicPr/>
          <p:nvPr/>
        </p:nvPicPr>
        <p:blipFill>
          <a:blip r:embed="rId2"/>
          <a:srcRect l="2608" t="37648" r="3123" b="13154"/>
          <a:stretch/>
        </p:blipFill>
        <p:spPr>
          <a:xfrm>
            <a:off x="6718320" y="3200400"/>
            <a:ext cx="2295360" cy="1709640"/>
          </a:xfrm>
          <a:prstGeom prst="rect">
            <a:avLst/>
          </a:prstGeom>
          <a:ln w="0">
            <a:noFill/>
          </a:ln>
        </p:spPr>
      </p:pic>
      <p:pic>
        <p:nvPicPr>
          <p:cNvPr id="228" name="spinbox" descr=""/>
          <p:cNvPicPr/>
          <p:nvPr/>
        </p:nvPicPr>
        <p:blipFill>
          <a:blip r:embed="rId3"/>
          <a:stretch/>
        </p:blipFill>
        <p:spPr>
          <a:xfrm>
            <a:off x="5562720" y="1905120"/>
            <a:ext cx="949320" cy="639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ew Tk subcommand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pboard g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age in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hoto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par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we can properly animate GIF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k caret </a:t>
            </a:r>
            <a:r>
              <a:rPr b="0" i="1" lang="en-CA" sz="3200" spc="-1" strike="noStrike">
                <a:solidFill>
                  <a:srgbClr val="000000"/>
                </a:solidFill>
                <a:latin typeface="Times New Roman"/>
              </a:rPr>
              <a:t>window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 ?-x x? ?-y y? ?-height h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or controlling global car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lso directs placement of IME/XIM wind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k windowing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o distinguish between Xlib and native Aqu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ment timel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fea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eps to 8.4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ext’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undo/redo support with ‘edit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undo, -autoseparators and -maxundo o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t’ takes multiple range pai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lete’ takes multiple range pai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omic dele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virtual ev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&lt;Selection&gt;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&lt;Modified&gt;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m’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m stackor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ew/Control the stacking order of toplev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m attribu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controlling the platform specific aspects of toplev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lementations for Mac and Wind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get Unix features in the fu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ally: topmost functionality on Wind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mpound widge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ow both image and text to be displayed simultaneous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ientation can be controlled with -compound o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ort for all button types and label widget, as well as in men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pdated widge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tto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abledbackground –disabledforeground -comp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try -state readonly -readonlybackgr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eckbutton -compound -overrelie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stbox -disabledforeground -state -activesty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enu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 -comp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nubutton -comp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diobutton -overrelie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ymmetric padding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ows left/right or top/bottom asymmetry in padding (-padx -pad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ies to widgets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p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belfr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geometry managers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id columnconfigu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aster inde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uni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id rowconfigu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aster inde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uni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k dialog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_getOpenFile -multiple -mess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_getSaveFile -mess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k_getOpenFil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k_getSaveFil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e different in whether the returned file name includes the extens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moved Tk Privat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Pri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[A-Z]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with ::tk::Priv and tk::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rt for ‘exporting’ the private comma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t don’t use them anywa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8.4 Change Detail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Wiki Changes in Tcl/Tk 8.4 p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1"/>
              </a:rPr>
              <a:t>http://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2"/>
              </a:rPr>
              <a:t>wiki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3"/>
              </a:rPr>
              <a:t>.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4"/>
              </a:rPr>
              <a:t>tcl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5"/>
              </a:rPr>
              <a:t>.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6"/>
              </a:rPr>
              <a:t>tk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7"/>
              </a:rPr>
              <a:t>/3099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Local mode wiki on the conference C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ource ChangeLo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8"/>
              </a:rPr>
              <a:t>http://www.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9"/>
              </a:rPr>
              <a:t>tcl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10"/>
              </a:rPr>
              <a:t>.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11"/>
              </a:rPr>
              <a:t>tk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12"/>
              </a:rPr>
              <a:t>/man/tcl8.4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Details in BoF la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Boo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8.4 Book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29415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oming soon to a store near y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elch 4</a:t>
            </a:r>
            <a:r>
              <a:rPr b="0" lang="en-CA" sz="28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 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lynt 2</a:t>
            </a:r>
            <a:r>
              <a:rPr b="0" lang="en-CA" sz="28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 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9" name="bookcover" descr=""/>
          <p:cNvPicPr/>
          <p:nvPr/>
        </p:nvPicPr>
        <p:blipFill>
          <a:blip r:embed="rId1"/>
          <a:stretch/>
        </p:blipFill>
        <p:spPr>
          <a:xfrm>
            <a:off x="3627360" y="990720"/>
            <a:ext cx="4830840" cy="5200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Where to get i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l Developer Xchan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Points to everyt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 u="sng">
                <a:solidFill>
                  <a:srgbClr val="ff0000"/>
                </a:solidFill>
                <a:uFillTx/>
                <a:latin typeface="Lucida Console"/>
              </a:rPr>
              <a:t>http://www.tcl.t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ctiveState ActiveTc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Binary distributions with exten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 u="sng">
                <a:solidFill>
                  <a:srgbClr val="ff0000"/>
                </a:solidFill>
                <a:uFillTx/>
                <a:latin typeface="Lucida Console"/>
              </a:rPr>
              <a:t>http://www.activestate.com/Products/ActiveTc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ourceFor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Core source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 u="sng">
                <a:solidFill>
                  <a:srgbClr val="ff0000"/>
                </a:solidFill>
                <a:uFillTx/>
                <a:latin typeface="Lucida Console"/>
              </a:rPr>
              <a:t>http://tcl.sourceforge.net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onference C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ctiveTcl and Tclkit bina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bout ActiveSt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ctiveState provides multi-language, cross-platform software &amp;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, Perl, PHP, Python, XS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Linux, Solaris, Windows, HP-UX, AIX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e make it easy to use new technolog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Web Services and .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ission: Make Programming Eas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Our 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ctive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SP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563868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0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522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621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3716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9810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5909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2004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4197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6386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2485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28600" y="1714680"/>
            <a:ext cx="0" cy="952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rot="16200000">
            <a:off x="2019240" y="1257120"/>
            <a:ext cx="228600" cy="38098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2400 h 3809880"/>
              <a:gd name="textAreaBottom" fmla="*/ 3777480 h 3809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10210"/>
                </a:lnTo>
                <a:cubicBezTo>
                  <a:pt x="10800" y="10505"/>
                  <a:pt x="5400" y="10799"/>
                  <a:pt x="0" y="10799"/>
                </a:cubicBezTo>
                <a:cubicBezTo>
                  <a:pt x="5400" y="10799"/>
                  <a:pt x="10800" y="11094"/>
                  <a:pt x="10800" y="11388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2133720" y="33523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rot="16200000">
            <a:off x="5078160" y="2084040"/>
            <a:ext cx="228600" cy="2155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18360 h 2155680"/>
              <a:gd name="textAreaBottom" fmla="*/ 2137320 h 2155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7029"/>
                </a:lnTo>
                <a:cubicBezTo>
                  <a:pt x="10800" y="7324"/>
                  <a:pt x="5400" y="7618"/>
                  <a:pt x="0" y="7618"/>
                </a:cubicBezTo>
                <a:cubicBezTo>
                  <a:pt x="5400" y="7618"/>
                  <a:pt x="10800" y="7913"/>
                  <a:pt x="10800" y="8207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4876920" y="3352320"/>
            <a:ext cx="0" cy="1411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29460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241280" y="5846760"/>
            <a:ext cx="8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425680" y="584676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020080" y="5830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M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036880" y="6006960"/>
            <a:ext cx="35856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63760" y="5999040"/>
            <a:ext cx="4651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38680" y="5999040"/>
            <a:ext cx="45720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76960" y="6006960"/>
            <a:ext cx="38088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1956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3809880"/>
            <a:ext cx="2667240" cy="10670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pen source distrib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om U.C. Berkele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sy GUIs under Un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nsible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016080" y="4764240"/>
            <a:ext cx="3629160" cy="1066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enhanced at Sun Microsystem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s, Macintosh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/Internet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va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422520" y="1295280"/>
            <a:ext cx="3048120" cy="838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form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olve and extend Tcl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development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240" y="1181160"/>
            <a:ext cx="3170160" cy="8762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reated as general-purpose command/scripting language by John Ousterh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64524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5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772400" y="5999040"/>
            <a:ext cx="3049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098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8580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0292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4674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058080" y="4095720"/>
            <a:ext cx="28191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7931160" y="2971440"/>
            <a:ext cx="7920" cy="1066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80773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19792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657840" y="1143000"/>
            <a:ext cx="2416320" cy="914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7499520" y="2971800"/>
            <a:ext cx="368280" cy="44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756400" y="3419640"/>
            <a:ext cx="1949400" cy="571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957320" y="2400480"/>
            <a:ext cx="633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156120" y="2400480"/>
            <a:ext cx="642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37184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4 Ju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029200" y="2400480"/>
            <a:ext cx="54756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6 O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804000" y="2400480"/>
            <a:ext cx="5716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1 A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858000" y="3029040"/>
            <a:ext cx="59832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2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461360" y="2400480"/>
            <a:ext cx="5587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3 F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8686800" y="257184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45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8656560" y="2571840"/>
            <a:ext cx="48564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 flipV="1">
            <a:off x="6883560" y="3282840"/>
            <a:ext cx="0" cy="860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3193920" y="3276360"/>
            <a:ext cx="0" cy="191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1828800" y="3276360"/>
            <a:ext cx="0" cy="866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63868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57200" y="1509840"/>
            <a:ext cx="0" cy="1461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00200" y="2238480"/>
            <a:ext cx="0" cy="733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cent 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000240" y="5189400"/>
            <a:ext cx="2990880" cy="10479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; Tcl/Tk core moves to SourceForge; TclPro open sourced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63960" y="1666800"/>
            <a:ext cx="0" cy="130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648240" y="1057320"/>
            <a:ext cx="2771640" cy="6094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2443320" y="3265200"/>
            <a:ext cx="0" cy="193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53920" y="5200560"/>
            <a:ext cx="19497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60036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162320" y="2590920"/>
            <a:ext cx="943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39680" y="3524400"/>
            <a:ext cx="9288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0 Fe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90680" y="2467080"/>
            <a:ext cx="952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1 Ap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952640" y="2467080"/>
            <a:ext cx="9716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2 Au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308240" y="3648240"/>
            <a:ext cx="98568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1 Ju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949480" y="3648240"/>
            <a:ext cx="100980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2 No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39680" y="1176480"/>
            <a:ext cx="2573280" cy="3333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2K in Austin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03280" y="1666800"/>
            <a:ext cx="205128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becomes Ajuba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714840" y="4019400"/>
            <a:ext cx="1923840" cy="5526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1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5148360" y="3276360"/>
            <a:ext cx="0" cy="74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57880" y="1819440"/>
            <a:ext cx="212400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19880" y="480060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. ActiveTcl 8.3.4.3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7772400" y="32763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7848720" y="3276720"/>
            <a:ext cx="0" cy="704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899480" y="2052720"/>
            <a:ext cx="1082520" cy="371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.0 Sep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44520" y="4143240"/>
            <a:ext cx="194940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0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3454560" y="4782960"/>
            <a:ext cx="433080" cy="417600"/>
            <a:chOff x="3454560" y="4782960"/>
            <a:chExt cx="433080" cy="417600"/>
          </a:xfrm>
        </p:grpSpPr>
        <p:sp>
          <p:nvSpPr>
            <p:cNvPr id="179" name=""/>
            <p:cNvSpPr/>
            <p:nvPr/>
          </p:nvSpPr>
          <p:spPr>
            <a:xfrm>
              <a:off x="3679560" y="49046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55896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355824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50676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350640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506400" y="4974480"/>
              <a:ext cx="31176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454560" y="4902840"/>
              <a:ext cx="4330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8305920" y="2838600"/>
            <a:ext cx="7596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7900920" y="6278400"/>
            <a:ext cx="1045800" cy="276480"/>
            <a:chOff x="7900920" y="6278400"/>
            <a:chExt cx="1045800" cy="276480"/>
          </a:xfrm>
        </p:grpSpPr>
        <p:sp>
          <p:nvSpPr>
            <p:cNvPr id="188" name=""/>
            <p:cNvSpPr/>
            <p:nvPr/>
          </p:nvSpPr>
          <p:spPr>
            <a:xfrm>
              <a:off x="7921800" y="627840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900920" y="627840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5357880" y="340056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Ju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962760" y="2971800"/>
            <a:ext cx="1886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696080" y="3981600"/>
            <a:ext cx="762120" cy="320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691320" y="259092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M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8305920" y="2486160"/>
            <a:ext cx="0" cy="48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143760" y="3733920"/>
            <a:ext cx="9428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4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824440" y="4143240"/>
            <a:ext cx="17337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. ActiveState TclPro (De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1320" y="5505480"/>
            <a:ext cx="221148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2. ActiveState Tcl Dev Kit 2.0 (Au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8153280" y="3276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977240" y="3505320"/>
            <a:ext cx="815760" cy="3492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b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 8.4 Development: TIP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Over 2 years in the mak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irst time the TIP process has defined a Tcl release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1"/>
              </a:rPr>
              <a:t>http://www.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2"/>
              </a:rPr>
              <a:t>tcl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3"/>
              </a:rPr>
              <a:t>.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4"/>
              </a:rPr>
              <a:t>tk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5"/>
              </a:rPr>
              <a:t>/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6"/>
              </a:rPr>
              <a:t>cgi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7"/>
              </a:rPr>
              <a:t>-bin/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8"/>
              </a:rPr>
              <a:t>tct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9"/>
              </a:rPr>
              <a:t>/tip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IPs are intended to guide and document development on the c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Initially rough, but process has improv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Of the 100+ TIPs, most targeted 8.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ny thanks to the maintainers and contribu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5+% improved performance over 8.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Lucida Console"/>
                <a:hlinkClick r:id="rId1"/>
              </a:rPr>
              <a:t>http://wiki.tcl.tk/1611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letely new Virtual File System (VF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Lucida Console"/>
                <a:hlinkClick r:id="rId2"/>
              </a:rPr>
              <a:t>http://wiki.tcl.tk/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Lucida Console"/>
                <a:hlinkClick r:id="rId3"/>
              </a:rPr>
              <a:t>v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rovements to numerous comma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4-bit integer and file system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Tification of the C AP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urce incompatible – with a compatability #def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nor command enhancemen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ray statis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ray nam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rrayName ?mo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?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patt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p recursionlim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sub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switch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?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xp string subSpec ?varNa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set ?-nocomplain? ?..?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nam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.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r ‘eq’ and ‘ne’ for true string comparis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 -tail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atter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mespace exi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o scrip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filena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pdated list command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</a:t>
            </a: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lse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omm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fficient way to replace el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linde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ist ?index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..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ex into nested lists easi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lsearc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all -ascii -decreasing -dictionary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increasing -inline -integer -not -real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sorted -sta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andreask</cp:lastModifiedBy>
  <cp:lastPrinted>1999-01-02T23:07:33Z</cp:lastPrinted>
  <dcterms:modified xsi:type="dcterms:W3CDTF">2002-09-11T16:00:26Z</dcterms:modified>
  <cp:revision>416</cp:revision>
  <dc:subject/>
  <dc:title>8.4 Tcl Overview</dc:title>
</cp:coreProperties>
</file>