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3FF87-E855-46E0-BAE4-FDBAACEC775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D0CD8-115E-4739-A83D-9A74E90E0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3F67C-27D1-42FC-BB9D-91A756A1D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E32F1-13B8-440A-A892-7D40E2E7741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188D-2125-4B17-AEF6-A3EF35C44DF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1021-3184-4F57-846D-D33A368AD39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9B6F-42B0-4071-9584-5790BA3B941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2980-038E-430E-95E0-7ACC23AD3FE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1D3C-E366-4EF2-89F5-4DCC4ADD0F0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B36B-2AA5-4502-99F1-45DA44D4E99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4D73-BFF9-4862-9ED7-3EC9A2CC54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241DB-AEA4-4280-885A-E12CE5514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39C5-00E0-4189-AA6F-D93622D57C9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06ED-652E-4EDE-A064-A3F4AEF1DCD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0A0C-880B-493B-8B9C-93B5E6C09DB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95DB-50CF-4C26-BD74-6138B10FEBD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9148-2CA6-4A10-AB7D-4B4C20AE89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AF3A3-F5A0-4F57-A544-1E57C4228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6C22B-07AA-4D4C-B616-1C5CDE2DF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E248B-DC34-40CA-B129-7E3302DC3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096DF-AF00-4057-B752-C8B610E74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5F9CF-AD10-4730-8A43-88DF586D2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FDA8A-D2A5-49C6-8BD3-B4CBD9236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ABEB8-ED9A-45AB-ABC5-9F28190E3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208080" y="291960"/>
            <a:ext cx="8707320" cy="636840"/>
            <a:chOff x="208080" y="291960"/>
            <a:chExt cx="8707320" cy="636840"/>
          </a:xfrm>
        </p:grpSpPr>
        <p:sp>
          <p:nvSpPr>
            <p:cNvPr id="2" name=""/>
            <p:cNvSpPr/>
            <p:nvPr/>
          </p:nvSpPr>
          <p:spPr>
            <a:xfrm>
              <a:off x="228600" y="304920"/>
              <a:ext cx="8686800" cy="609480"/>
            </a:xfrm>
            <a:prstGeom prst="rect">
              <a:avLst/>
            </a:prstGeom>
            <a:gradFill rotWithShape="0">
              <a:gsLst>
                <a:gs pos="0">
                  <a:srgbClr val="b82619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208080" y="291960"/>
              <a:ext cx="144756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92801-B4C2-4ACC-A188-F30F4AA4CE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34FAB-FB09-497E-9C0D-A3BD49600D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ctivestate_logo" descr=""/>
          <p:cNvPicPr/>
          <p:nvPr/>
        </p:nvPicPr>
        <p:blipFill>
          <a:blip r:embed="rId3"/>
          <a:stretch/>
        </p:blipFill>
        <p:spPr>
          <a:xfrm>
            <a:off x="7785000" y="2565360"/>
            <a:ext cx="1314720" cy="571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pplied Ope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www.tcl.tk/cgi-bin/tct/ti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y focu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rrently over 130 T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T discussion is open on the public mailing list: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tcl-core@lists.sourceforge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276200" y="3886200"/>
          <a:ext cx="7315200" cy="1595520"/>
        </p:xfrm>
        <a:graphic>
          <a:graphicData uri="http://schemas.openxmlformats.org/drawingml/2006/table">
            <a:tbl>
              <a:tblPr/>
              <a:tblGrid>
                <a:gridCol w="1716120"/>
                <a:gridCol w="1986120"/>
                <a:gridCol w="1987560"/>
                <a:gridCol w="16254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n Fl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er 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d 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édéric Bon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Gri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ngye M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 Riefenstah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Bañ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241280" y="1676520"/>
          <a:ext cx="7315200" cy="162216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f 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 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Mistachk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vel Go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609480" y="121932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(TIP #24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840" y="342900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(TIP #3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8760" y="5638680"/>
            <a:ext cx="48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 open for new recruit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sf.ne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erences to Scriptics site should all be changed to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0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urceForge provides a wealth of services for open source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d by TCT and Tcl/Tk main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the Tcl Developer 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Open Sour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provides the Tcl community wit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66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Direc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Tcl 8.4.3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8.4.3 Tcl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d with many popular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for Win, Lin, Sol, HP-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repository (still) in the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tdx-may2003" descr=""/>
          <p:cNvPicPr/>
          <p:nvPr/>
        </p:nvPicPr>
        <p:blipFill>
          <a:blip r:embed="rId1"/>
          <a:stretch/>
        </p:blipFill>
        <p:spPr>
          <a:xfrm>
            <a:off x="1000080" y="990720"/>
            <a:ext cx="7229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cl’Europ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Cookbook on ASP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ASPN_Tcl_Cookbook" descr=""/>
          <p:cNvPicPr/>
          <p:nvPr/>
        </p:nvPicPr>
        <p:blipFill>
          <a:blip r:embed="rId1"/>
          <a:stretch/>
        </p:blipFill>
        <p:spPr>
          <a:xfrm>
            <a:off x="1143000" y="1192320"/>
            <a:ext cx="693432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Professional Tcl bund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d Decemb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(based on TclP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odo Pro 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ari Bookshelf online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3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4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25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launched TclPro as updated commercial quality “Tcl Dev K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ource-level debugger with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nd errors without running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 (Wrapp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self-contained applications for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rotect your sourc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nd enhance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verage and hot-spot analysis built into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Sv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and manage Tcl scripts as Windows N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write of the wrapper based on VFS and starkit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e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untime Tcl application browser to complement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features and UIs for original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IDE for scripting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ID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ght integration with Tcl Dev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Tcl editing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Tk GUI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platform (Windows &amp; Linu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supports Perl, Python, PHP, XSLT and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2.6 released May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debugger with std channe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amped Inspector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3.0 on the drawing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 Builder v2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many widgets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Plug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lugin-may2003" descr=""/>
          <p:cNvPicPr/>
          <p:nvPr/>
        </p:nvPicPr>
        <p:blipFill>
          <a:blip r:embed="rId1"/>
          <a:stretch/>
        </p:blipFill>
        <p:spPr>
          <a:xfrm>
            <a:off x="4343400" y="2984400"/>
            <a:ext cx="4495680" cy="34164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baaaaaack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IE6 and latest NPAPI brow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3.0 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8.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ps with TD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istribu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iki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r subscribe to </a:t>
            </a:r>
            <a:r>
              <a:rPr b="0" lang="en-CA" sz="2000" spc="-1" strike="noStrike" u="sng">
                <a:solidFill>
                  <a:srgbClr val="0066ff"/>
                </a:solidFill>
                <a:uFillTx/>
                <a:latin typeface="Arial"/>
              </a:rPr>
              <a:t>tcl-announce@listserv.activestat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01680" y="202104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now considered the stable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virtual file system (V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performance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4160" y="1447920"/>
            <a:ext cx="328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.3 released May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added spinbox, labelframe, panedwindow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S, lset, command tr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+% performance improvement over 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 or better than 8.0, but now unicode aware and thread-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integer and file-syste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book4cover_sm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3244680" cy="43196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widget have updated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 buttons (simultaneous image and tex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books from Fly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elch com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d for 8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8.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schedule not fin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Q4’03/Q1’04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us TIPs already targeting 8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’ dat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‘exp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s for more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input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9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drawing board, but really just at the wishlist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ize C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restructuring of Tcl level commands and glob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O / encapsulation features in the core (ensem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oct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her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(unrele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re is guided by community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now i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0 on the draw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sues are most pre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will continue to work with the Tcl community and build more Tcl relate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archive file support (.jar/.z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odules shipped with core (ie: incr Tc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o Tcl Dev Kit &amp; Komodo demo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eState provides multi-language, cross-platform software &amp;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, Perl, PHP, Python, XS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nux, Solaris, Windows, HP-UX, AIX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ission: Make Programming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ftware developm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 quality languag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gramm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ureMessage email filtering 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4832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666880"/>
            <a:ext cx="4827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00160" y="2666880"/>
            <a:ext cx="5144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02000" y="2666880"/>
            <a:ext cx="514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5600" y="2666880"/>
            <a:ext cx="5428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1623960" y="1652400"/>
            <a:ext cx="228600" cy="30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3019320"/>
              <a:gd name="textAreaBottom" fmla="*/ 2993760 h 30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733400" y="332388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4162320" y="2180880"/>
            <a:ext cx="228600" cy="1962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6560 h 1962000"/>
              <a:gd name="textAreaBottom" fmla="*/ 194544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990960" y="3314880"/>
            <a:ext cx="0" cy="17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038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502920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19320" y="2666880"/>
            <a:ext cx="4860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4984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868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4095720"/>
            <a:ext cx="270504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649920" y="2971800"/>
            <a:ext cx="0" cy="112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21036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400480"/>
            <a:ext cx="6429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8148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2400480"/>
            <a:ext cx="5479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38960" y="2400480"/>
            <a:ext cx="5713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49840" y="3029040"/>
            <a:ext cx="59868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62840" y="2514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3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8275680" y="259092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74080" y="240048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4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58200" y="24098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0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00920" y="30290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flipV="1">
            <a:off x="2971800" y="327672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676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04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1057320"/>
            <a:ext cx="259056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040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2920" y="4019400"/>
            <a:ext cx="1762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57644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85960" y="1819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4316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2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49568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15000" y="3276720"/>
            <a:ext cx="0" cy="371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59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248520" y="2971800"/>
            <a:ext cx="27018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348624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414324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Pro 1.5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1440" y="550548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86400" y="3648240"/>
            <a:ext cx="1127160" cy="4950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.3.5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 8.3 E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2219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57800" y="327636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24240" y="1495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Sep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934320" y="327636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472428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3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4334040"/>
            <a:ext cx="100476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13560" y="193356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6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68960" y="3543480"/>
            <a:ext cx="19512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July 29 – Aug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620120" y="327636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01000" y="2619360"/>
            <a:ext cx="7970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us As of Tcl’Europe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/Tk 8.3.4 was the stable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3 now base standard in Linux d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4b1 was just re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frozen after 2 years i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enhancements and ad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Jeff Hobbs</cp:lastModifiedBy>
  <cp:lastPrinted>1999-01-02T23:07:33Z</cp:lastPrinted>
  <dcterms:modified xsi:type="dcterms:W3CDTF">2003-05-26T19:18:32Z</dcterms:modified>
  <cp:revision>409</cp:revision>
  <dc:subject/>
  <dc:title>Tcl'Europe 2003 State of Tcl</dc:title>
</cp:coreProperties>
</file>