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10180"/>
        <c:axId val="49116587"/>
      </c:barChart>
      <c:catAx>
        <c:axId val="88410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16587"/>
        <c:crosses val="autoZero"/>
        <c:auto val="1"/>
        <c:lblAlgn val="ctr"/>
        <c:lblOffset val="100"/>
        <c:noMultiLvlLbl val="0"/>
      </c:catAx>
      <c:valAx>
        <c:axId val="49116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10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35-8DD1-425E-B482-4F1981A1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858-BFB6-473B-BB90-FAD988E7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822-E3DC-43A7-A4C1-2F61E88D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D52-E6E3-447A-83D5-074BDAB9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D09-F3C4-4FCC-BC62-2BCE67C1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97B-0FE6-4394-BD85-46162A41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BF0-F3A8-465D-9563-BF63D2C2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C68-7D6E-4D4A-9A7C-80D75F69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9D6-3094-40CD-B20E-1C57A73F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D78-DA56-4CF8-B621-3FCD760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307-59F7-4621-B8FB-E44B8F6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32C-8369-44D4-AAFD-29C4E49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F2D99-C94F-446A-8F9A-BFD8AF1A71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