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235667"/>
        <c:axId val="6339664"/>
      </c:barChart>
      <c:catAx>
        <c:axId val="892356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9664"/>
        <c:crosses val="autoZero"/>
        <c:auto val="1"/>
        <c:lblAlgn val="ctr"/>
        <c:lblOffset val="100"/>
        <c:noMultiLvlLbl val="0"/>
      </c:catAx>
      <c:valAx>
        <c:axId val="63396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356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E2F3-A420-41F9-9FFA-FB46D5E02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64E1-E936-41EC-A3C5-A3C1BCAF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3310-6298-447E-8508-C1BB28B46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701C-4913-4B64-8FC7-323261D6E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CB0B-A081-4F69-AD4C-BD515543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2639-DA9D-49B6-A4D6-92F1AD42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A269-24F4-4E3B-983E-95DA2043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11EF-2569-4584-83E0-3B9EDB77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88B6-A99A-421F-9C5E-ECCBC692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2DC5-B6E4-4553-A312-1AD05D92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99D5-0AA9-4BBE-91FF-AA809FCB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F439-3B18-45AD-87A6-157C8E51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C670F-25EC-4308-B31F-7E86882D00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