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0535"/>
        <c:axId val="99462096"/>
      </c:barChart>
      <c:catAx>
        <c:axId val="8400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62096"/>
        <c:crosses val="autoZero"/>
        <c:auto val="1"/>
        <c:lblAlgn val="ctr"/>
        <c:lblOffset val="100"/>
        <c:noMultiLvlLbl val="0"/>
      </c:catAx>
      <c:valAx>
        <c:axId val="99462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0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122-B6F1-4968-BF6C-78E7AC93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DD3-8AA0-4C54-B438-4BC629C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0D2-A42C-4FF0-B8A9-AF77B1AF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2CF-704C-47C3-AFC4-A1CCC8FB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270-8DC7-48F6-8FA7-29235748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CB1-0F6C-46C4-BDA7-423888E4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3C4-B295-4A39-AAA3-AD80A6A7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4E9-2467-4DD2-967E-AB5ED8C2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C81-E4F7-4890-BC7E-38F98E2C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DD1-7496-4C68-9B65-B3AE886D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359-A3AF-4D83-8A30-0A475C2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F9F-BBE2-424D-9967-D7EE586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B1477-C29F-48A0-8ABF-D843FE90B1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