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3503"/>
        <c:axId val="82530061"/>
      </c:barChart>
      <c:catAx>
        <c:axId val="2973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30061"/>
        <c:crosses val="autoZero"/>
        <c:auto val="1"/>
        <c:lblAlgn val="ctr"/>
        <c:lblOffset val="100"/>
        <c:noMultiLvlLbl val="0"/>
      </c:catAx>
      <c:valAx>
        <c:axId val="82530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3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279-51C5-4CF4-8350-D59D0910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7AE-9848-4380-8630-7D1528B5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BE9-18DF-4D8D-A07A-89BABCCC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1F6-B27B-4532-929D-D61E5F4E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D80-06C1-42F3-9E3E-D8C32A98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54B-24DC-4EAC-A6D8-1A13615C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867-7206-48CB-B036-F8FD68AD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CA5-E1F7-4609-82D4-FC6749A2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653-F462-4AFF-94AB-8E9E6387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CBC-D004-4B69-B168-3A1221B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EB5-AF59-43EB-A36C-2A61F43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932-F186-408D-8516-171A1B0A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38943-707B-4839-9224-43F291EDBD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