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11321"/>
        <c:axId val="73538582"/>
      </c:barChart>
      <c:catAx>
        <c:axId val="31511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38582"/>
        <c:crosses val="autoZero"/>
        <c:auto val="1"/>
        <c:lblAlgn val="ctr"/>
        <c:lblOffset val="100"/>
        <c:noMultiLvlLbl val="0"/>
      </c:catAx>
      <c:valAx>
        <c:axId val="73538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11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053-0764-45AB-9EED-70F6A10C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76B-2DFB-470D-B809-861EAA13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782-A382-46C6-8889-1F4C0E0E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BF5-802C-4460-B34F-030DD6E0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EB2-F615-4B6A-BD45-6F813AC9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1B2-574A-4B35-88F9-502D2731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C8D-7434-4FD8-BB78-C222B0CF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B66-9898-43D7-88B4-C0DBCED8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81D-DD1F-4067-AEC0-A90098E4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2857-EF44-4F2D-9C92-E7F1E294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060-F82F-485A-B843-E54AC5C4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AF3-2F4A-40A1-896F-3ADB6141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462C7-6C16-4AC4-B2B2-E3BCD9E771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