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42574"/>
        <c:axId val="75236415"/>
      </c:barChart>
      <c:catAx>
        <c:axId val="33142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36415"/>
        <c:crosses val="autoZero"/>
        <c:auto val="1"/>
        <c:lblAlgn val="ctr"/>
        <c:lblOffset val="100"/>
        <c:noMultiLvlLbl val="0"/>
      </c:catAx>
      <c:valAx>
        <c:axId val="75236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42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216-BC71-44D4-96C4-23FD2333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0D5-F9AD-4C8C-9D0A-A424C0A6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C8C-DBAA-4620-9C4B-ADCEFC1F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6C9-0C36-40CF-858A-B5D3B4F0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DB3-DF6F-4DF4-91D2-3B81C968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B1D-B37D-4257-8F65-A02E07AB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06D-68B0-4BEE-A212-C2A2432A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B83-EDA1-4FC3-930B-BBED01DF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F01-3939-4D9B-A4B8-0AE512D5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B8C-F8E7-443C-A6F8-8E8B6A0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BF0-EFCD-4B34-BA75-17C5A7A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CA8-5795-4CCD-AF7C-DBB5E29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D4707-8264-4DF5-B0EA-C75D69EAD5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