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74951"/>
        <c:axId val="83372473"/>
      </c:barChart>
      <c:catAx>
        <c:axId val="27974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72473"/>
        <c:crosses val="autoZero"/>
        <c:auto val="1"/>
        <c:lblAlgn val="ctr"/>
        <c:lblOffset val="100"/>
        <c:noMultiLvlLbl val="0"/>
      </c:catAx>
      <c:valAx>
        <c:axId val="83372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74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5EF-9B7A-4A5A-BD66-3D7922B0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AAF-3F5A-41BC-9855-71352A7D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26B-5E00-4024-8098-659836B3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B2B5-93F5-4E7F-839D-7E7C7299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DAA-571F-444A-AEB1-1873AACF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565-F36B-4A17-AB88-0C41B515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807-3778-4F16-8902-751290EB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94E1-C69F-4EBA-A80E-1B9EF287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F5F-3D26-4684-BD62-C4C9F577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3F3-2887-4315-9D86-4FE46226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8A5-F718-4F5A-804D-21B67D6E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E9F-C195-474A-AD78-49E9ABB4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E9D78-D5F4-4352-A1AC-BB5DA769FC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