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35927"/>
        <c:axId val="43440748"/>
      </c:barChart>
      <c:catAx>
        <c:axId val="11235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40748"/>
        <c:crosses val="autoZero"/>
        <c:auto val="1"/>
        <c:lblAlgn val="ctr"/>
        <c:lblOffset val="100"/>
        <c:noMultiLvlLbl val="0"/>
      </c:catAx>
      <c:valAx>
        <c:axId val="43440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35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52F-D2FB-425A-B6BE-45C07160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3048-0BC2-43EE-8F38-BBDA1F44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3E8-5A9D-4764-926F-9C56DEB5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879B-31AA-4EAC-9B99-683C1FC7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882-0BEF-4CDC-9141-14DC4A32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0D2-B760-4B53-BF4F-2C982B03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226-8820-4F16-8F01-3C328237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D02-E6FA-4FCE-976D-FBEC2800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3B7-0E58-4D4C-999D-9600B32A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0F28-2498-47CA-B9D1-289DD407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6A9-43B8-4672-8C40-84671E69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B8B-703C-42A1-95D8-5A0E7A93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6A3AC-4EDD-4380-B745-93B71FE81E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