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642325"/>
        <c:axId val="23985227"/>
      </c:barChart>
      <c:catAx>
        <c:axId val="616423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85227"/>
        <c:crosses val="autoZero"/>
        <c:auto val="1"/>
        <c:lblAlgn val="ctr"/>
        <c:lblOffset val="100"/>
        <c:noMultiLvlLbl val="0"/>
      </c:catAx>
      <c:valAx>
        <c:axId val="239852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423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BFA8-1ACC-45CC-8CD9-7C7C89BD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4D45-EA8B-465E-9231-3C5A6D99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1D77-0F92-4FAC-A594-68AD456E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C14D-CE41-48F5-B23B-A6549F75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1B2B-71B9-41C6-80DD-D4A3F3AC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701A-2CBF-4460-BAA4-9429B0D4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D3A9-F20F-4474-A866-0500F879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5FBE-E533-4211-B061-9A9E46BB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7B6A-B816-4670-B922-E65FAB98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818F-7F91-49BE-B9A3-C666776E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8F4-E98B-4517-90BD-ABCB0A88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60FA-C211-4B8A-B38F-58F42B90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603FC-60E7-4933-B001-A7959AD50E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