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6714"/>
        <c:axId val="72694143"/>
      </c:barChart>
      <c:catAx>
        <c:axId val="7116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94143"/>
        <c:crosses val="autoZero"/>
        <c:auto val="1"/>
        <c:lblAlgn val="ctr"/>
        <c:lblOffset val="100"/>
        <c:noMultiLvlLbl val="0"/>
      </c:catAx>
      <c:valAx>
        <c:axId val="72694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6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5FC-06CE-4B72-AE54-B0305114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F70-ACA5-45F9-BD63-7C5AFAAE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97C-A804-4C4B-9E9B-8C8B5180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5E1-4577-4847-8081-D81DCFCB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04E-9320-4B0D-B7F2-862BD735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360-38D2-48D4-8CEC-D946D77D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ABA-5601-4922-BC84-83C1D364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47F-6089-4754-ADB5-90342FFF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2DD-3C07-4E3D-B81F-CCC0946D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693-84ED-430C-9AA2-6A7BCCA5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FCD-CA80-4B9F-A303-6DFE3C16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08E-DEAE-4CEE-B464-99C1E60E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0F38B-0B2A-4AF7-8FDA-52918E21A2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