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92146"/>
        <c:axId val="93826417"/>
      </c:barChart>
      <c:catAx>
        <c:axId val="55592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26417"/>
        <c:crosses val="autoZero"/>
        <c:auto val="1"/>
        <c:lblAlgn val="ctr"/>
        <c:lblOffset val="100"/>
        <c:noMultiLvlLbl val="0"/>
      </c:catAx>
      <c:valAx>
        <c:axId val="93826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92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CCB-CD5C-448D-AA7A-5A8C8E60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4C94-FB92-4B1F-8E7A-D259A661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25C-7855-45D0-84A5-74B122B6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985-392E-4240-975D-43D54E49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FFB-9094-450F-9E78-ABF0AF97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6ED-618D-4CBE-B49F-56B8390D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B89-2217-429A-A2EB-F3DB5781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70B-AE3D-4289-A33B-C462F522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36D-25A6-4DF5-BD56-17C96A2F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D63-E989-4DC7-86FE-19D64692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DE0-CC67-4EE9-B8AC-EB577A8E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024-F0A3-44AD-958D-D323EC1E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F4B35-3203-43CF-8C96-AC9C89298B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