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172003"/>
        <c:axId val="14247393"/>
      </c:barChart>
      <c:catAx>
        <c:axId val="391720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247393"/>
        <c:crosses val="autoZero"/>
        <c:auto val="1"/>
        <c:lblAlgn val="ctr"/>
        <c:lblOffset val="100"/>
        <c:noMultiLvlLbl val="0"/>
      </c:catAx>
      <c:valAx>
        <c:axId val="142473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1720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615A-64A4-43AD-9B6B-3922A4B10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C62C-4993-41E5-8FC4-81908154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E696-0E1D-4FDB-8FDC-8891C070F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B461-F03A-452D-B5FF-38DA56A67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5A38-BFA6-4CD1-A4A3-BEEE2C4F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5396-A216-4702-BD8A-636C5CA4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5D1A-5BF9-428D-96C3-5DBE7D6A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45E1-4960-4DEA-8F53-1B97F90F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AC82-40A7-4F7D-AA13-264F6C09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4903-6395-4A31-8032-610EB700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7998-788D-4A69-9047-0AEDCFC3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CB4D-9636-4399-AFF6-0DD0920A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9A8C00-1D99-4769-88F2-A5653AB196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