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0842"/>
        <c:axId val="89232028"/>
      </c:barChart>
      <c:catAx>
        <c:axId val="58580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32028"/>
        <c:crosses val="autoZero"/>
        <c:auto val="1"/>
        <c:lblAlgn val="ctr"/>
        <c:lblOffset val="100"/>
        <c:noMultiLvlLbl val="0"/>
      </c:catAx>
      <c:valAx>
        <c:axId val="89232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0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BA4-CF65-4739-B764-2E9B8AB6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3E7-E9C1-4E35-8DAB-C2716985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8FE-5A6F-48FE-A776-74E8EE8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6DE-6C3D-4A62-AE0F-51C63EAA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FAA-5A58-405F-8722-24150AAF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EE0-FE8A-4FB9-8B21-F00316E9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0BE-10C6-4C55-A291-7F08E4A1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453-5BE8-4033-A35C-94F9D15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5AE-42D3-4765-A399-A66D095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2E1-B78E-405B-9756-7E912E7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9AF-4C98-4944-B1AF-3B57B67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405-4D95-4A0A-9554-8D587B8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EB203-880C-4CF0-8047-2E818F3FD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