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734307"/>
        <c:axId val="62922178"/>
      </c:barChart>
      <c:catAx>
        <c:axId val="817343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922178"/>
        <c:crosses val="autoZero"/>
        <c:auto val="1"/>
        <c:lblAlgn val="ctr"/>
        <c:lblOffset val="100"/>
        <c:noMultiLvlLbl val="0"/>
      </c:catAx>
      <c:valAx>
        <c:axId val="629221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7343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EFD4-5DB6-423B-9574-A3710285E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00F0-8834-44FF-8937-7EB53C39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3F2F-5F6A-4A8B-9FB8-87A2E47E6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80A6-FEA1-4F79-9354-48042E9FE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5180-4FD7-4A0F-81E2-F3E96C36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0C95-F06F-4459-820A-002F4ADE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BB1A-DFAC-41EC-B1E8-84C60F9D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2B34-ECD0-4E31-A342-D871BE61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6CA3-E8E8-4DB0-B9FC-DA1FBC22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8BAF-4D3A-4C0F-970F-653E2F31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9F72-7E05-4038-BA93-20F1F084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5F63-F3AA-4AD4-A947-FCD4190B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9F2F9-475C-4646-99FA-C45DB5912F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