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25787"/>
        <c:axId val="17344443"/>
      </c:barChart>
      <c:catAx>
        <c:axId val="49425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4443"/>
        <c:crosses val="autoZero"/>
        <c:auto val="1"/>
        <c:lblAlgn val="ctr"/>
        <c:lblOffset val="100"/>
        <c:noMultiLvlLbl val="0"/>
      </c:catAx>
      <c:valAx>
        <c:axId val="17344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25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49F-B26F-40EF-8CB4-830B2ED4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573-1C2C-4A55-825D-5E23FA79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3A0-0E32-4A36-AC03-948C2188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D50-DE5F-440C-BB44-58939267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1A2-A57F-4E86-BD56-E456287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D97-880E-4FC0-AE9C-7A705E4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0FC-5595-4B4C-8931-066823D8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7BB-BCE0-4987-84A3-B3425BC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990-7CA4-4A74-B5F8-9A323E1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BA2-AC54-44DF-B72D-30014DF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C50-7540-4B4B-8807-0F94CBE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260-354D-43F5-AF00-BC7CD12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CE6EC-4EEC-479E-B1BB-C8B6AA6CF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