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66AA-4E41-445A-B0CF-9407ADE7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C50-9F34-4ADB-A7FB-18F124FB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EDD-CCFF-41EE-B9D1-C3B1A958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CCA-6AED-4C6D-80E0-4AA1DCDA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A0B1-FAFE-4937-AA48-31BE6BB1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390F-781A-464E-9005-AF2B38B7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DC39-89EF-47A6-8EEE-1083DABC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F72-F356-45B8-97EE-26CFB4F9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FDA1-9335-4FE3-BAB8-DD0AD262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F945-E7EE-4B8D-BC7D-317E7078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0FFC-A20E-4026-B2BE-230338B8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D8C-ED72-456F-8A45-F543B003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37B8-066E-40BD-BB68-7FC858AB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1733-7E1B-4FA3-B6E8-7EE39AC6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4F09-8D53-4EDA-AA19-93C81A39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D02A-7A22-40EC-8FA8-FA99638B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70AE-A39E-4D22-B629-D21C386E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070-3689-4BE2-BC86-3977124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5BB5-DE76-4C14-BF91-72F8F7B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57B-8A3B-47E7-BECC-3E211981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DA8-0656-4138-9E54-EC59A427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4B1-3477-4BDD-93A5-D901732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D69-B15C-4797-99CE-39B941D5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8CB-4ED6-4348-94DD-C672223F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834-0D92-47AA-80FD-B3AF8EA4C274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B048-2BD0-4299-B958-12DABB76BA1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33"/>
                </a:solidFill>
                <a:latin typeface="Times New Roman"/>
              </a:rPr>
              <a:t>finding the best fitting curve to a given set of points</a:t>
            </a:r>
            <a:r>
              <a:rPr b="0" lang="de-DE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3429000"/>
            <a:ext cx="492444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c2b"/>
                </a:solidFill>
                <a:latin typeface="Times New Roman"/>
              </a:rPr>
              <a:t>Least Square Fitting (Linear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755640" y="1773360"/>
                <a:ext cx="20876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84360" y="2421000"/>
                <a:ext cx="45352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725400" y="3244680"/>
                <a:ext cx="43815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640" y="4005360"/>
                <a:ext cx="46800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00200" y="4797360"/>
                <a:ext cx="22748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3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90400" y="1773360"/>
                <a:ext cx="1828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2421000"/>
                <a:ext cx="6172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a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b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c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z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3174840"/>
                <a:ext cx="570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84360" y="3933720"/>
                <a:ext cx="741672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∧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b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c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33520" y="4797360"/>
                <a:ext cx="3101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c2b"/>
                </a:solidFill>
                <a:latin typeface="Times New Roman"/>
              </a:rPr>
              <a:t>Least Square Fitting (4 Dimensions)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4043520"/>
                <a:ext cx="4392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r>
                                <m:t xml:space="preserve">n</m:t>
                              </m:r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sSup>
                                        <m:e>
                                          <m:r>
                                            <m:t xml:space="preserve">i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sub>
                                  </m:sSub>
                                </m:e>
                              </m:nary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187280" y="2254320"/>
                <a:ext cx="4392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9T07:36:10Z</dcterms:created>
  <dc:creator>epsi</dc:creator>
  <dc:description/>
  <dc:language>en-US</dc:language>
  <cp:lastModifiedBy>Customer</cp:lastModifiedBy>
  <dcterms:modified xsi:type="dcterms:W3CDTF">2005-05-07T18:16:01Z</dcterms:modified>
  <cp:revision>13</cp:revision>
  <dc:subject/>
  <dc:title>Trend Cyclic</dc:title>
</cp:coreProperties>
</file>