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351003"/>
        <c:axId val="16221960"/>
      </c:barChart>
      <c:catAx>
        <c:axId val="323510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21960"/>
        <c:crosses val="autoZero"/>
        <c:auto val="1"/>
        <c:lblAlgn val="ctr"/>
        <c:lblOffset val="100"/>
        <c:noMultiLvlLbl val="0"/>
      </c:catAx>
      <c:valAx>
        <c:axId val="162219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510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B377-6422-4435-A932-E66775B9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B03C-EF3A-47A9-A526-CC6825C3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37AE-1B8E-4816-ACC9-FC4DA75E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66F4-3C3F-4E6F-9357-3FFA969F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E346-5EDA-40D7-B0E3-D85B33D3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A951-80E3-4F7B-8A27-C253CC8C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A341-7DA2-4363-8216-10EAD2F7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160A-B1DD-4382-8C3B-CA3ED65E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30D8-3E39-4DC6-8A98-996DB007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BD7-0E13-4A0A-A255-9C107807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AB70-D69F-41D9-9E18-FB35D48C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2AE8-F8C9-4400-B3ED-15C23B32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31614-27EC-4B8A-A5A9-613252CCC2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