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56835"/>
        <c:axId val="3764589"/>
      </c:barChart>
      <c:catAx>
        <c:axId val="31056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589"/>
        <c:crosses val="autoZero"/>
        <c:auto val="1"/>
        <c:lblAlgn val="ctr"/>
        <c:lblOffset val="100"/>
        <c:noMultiLvlLbl val="0"/>
      </c:catAx>
      <c:valAx>
        <c:axId val="3764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56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11A-D4CF-4E02-A117-C72511A5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760-2404-49DA-8CF0-32CFE605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E53-E4F9-485C-A567-45DC8FC0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4D2-4696-4808-B808-ECBA3E92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BAD-8A9D-4A6E-AB4E-043D5E23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15B-8660-4DA1-B732-B3B43A1A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86E-51B8-488E-B80F-67A9FC95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F4A-5308-4DB9-83A7-38FDDD29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2F0-1C5A-47BB-9A00-BA6A217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861-43AB-4EC5-8755-9AB3AB0B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029-D47B-464F-B930-27485D0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2C9-73BF-49F1-B33B-ED74F31D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784F5-E600-4240-B867-E2C7570EE0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