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01343"/>
        <c:axId val="47511774"/>
      </c:barChart>
      <c:catAx>
        <c:axId val="38701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11774"/>
        <c:crosses val="autoZero"/>
        <c:auto val="1"/>
        <c:lblAlgn val="ctr"/>
        <c:lblOffset val="100"/>
        <c:noMultiLvlLbl val="0"/>
      </c:catAx>
      <c:valAx>
        <c:axId val="47511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1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1F2-8E13-4338-A6BC-2F1669F2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327-5235-4887-8F02-90E45BD0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CF4-0B92-4E6B-A14B-8E206ED9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E11-EC83-4CC9-A69D-A9A1E345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3FE-4518-4B88-A247-9DD40A26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E94-70FF-4BBF-BAB2-906A1EE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D4D-5A5F-499F-8DAC-9920B8F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24D-ABF0-40BF-8E9F-92E6F9A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26E-91AE-4856-B1F3-3D33281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4FF-FB64-49C6-B519-6F200ED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711-1CFB-4204-98F9-8455B09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5B9-35A2-4125-8AD2-A46C19F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70C36-E450-43C6-91B8-FF35901957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