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54139"/>
        <c:axId val="91403920"/>
      </c:barChart>
      <c:catAx>
        <c:axId val="75254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03920"/>
        <c:crosses val="autoZero"/>
        <c:auto val="1"/>
        <c:lblAlgn val="ctr"/>
        <c:lblOffset val="100"/>
        <c:noMultiLvlLbl val="0"/>
      </c:catAx>
      <c:valAx>
        <c:axId val="91403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54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198-F0FA-4417-90A7-C3C7AD6B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0B7-9AAF-403D-841B-061F1F7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375-46DC-47B1-ADC6-D4FD891E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899-751D-4809-8E6B-5187014F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030-A329-4CD1-BFEA-23C46F00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783-076B-4F0E-9937-EF86F5D4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FEA-56C3-4A9A-8588-F51774F6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E2A-AC4B-4E74-B29F-C13FB961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30A-277F-4084-B3DC-1101E571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4D3-1658-47B0-B575-04680C8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DAA-43C4-44D2-A581-2B43917C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BC3-0502-4FF9-9641-F92193ED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61A0C-F7A9-4CC4-B888-93DFAD7199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