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37A57-796A-49B3-8134-C1A88350B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42FC0-8FD5-4EDA-84BF-A6AE0549C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A58D0-DEDF-418E-B2E8-F9393551B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3E9E6-83BE-48D6-8C7C-BB8947D5F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A12EE-21A3-4F54-BC5E-8842C96BD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1F732-4694-4763-8BD6-250133A31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0209F-0B95-46CE-9E9F-F45DB3202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11156-192F-4934-ABC0-95FA8ECAF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DEF6C-BD71-4C95-BA2D-2D5FF1D25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D2A54-E135-4A00-8F30-FC45FDA5C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0FCCC-0B88-4908-9166-EC8DF9453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03274-A60B-476B-B76B-2C97EA0FC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C4198-2780-44FB-ADD8-CC61B23FA8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11:49:47Z</dcterms:created>
  <dc:creator/>
  <dc:description/>
  <dc:language>en-US</dc:language>
  <cp:lastModifiedBy>Alexey Zhilin</cp:lastModifiedBy>
  <dcterms:modified xsi:type="dcterms:W3CDTF">2005-05-15T05:31:27Z</dcterms:modified>
  <cp:revision>5</cp:revision>
  <dc:subject/>
  <dc:title>Слайд 1</dc:title>
</cp:coreProperties>
</file>