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735C-013E-4BAB-8FA7-1E39EEF9C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DFB9-D40D-4644-B4E6-CFBD3343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FE3A-69B1-4569-B9E4-EBA9DF266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5ED2-08F4-4219-8548-DE0B2EEFC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15B3-987E-4C70-87AB-D94E1629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E9A1-198E-4F54-8525-83647552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C22B-3D98-4DD7-8596-70A82D16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CE5A-C2E7-4DB6-B6F6-1C81962E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FA2A-2809-46D4-A86E-99324F13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B2BA-0880-494D-89F6-23158253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03F0-6C27-49FD-9054-A6AF7CAF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AD13-8E53-45A2-A082-C054CCB6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74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74F71ED8-F6A6-48C7-A4B2-9584485F43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3040" y="3886200"/>
            <a:ext cx="6397920" cy="17524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H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33360"/>
            <a:ext cx="6062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37440" y="333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70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70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9999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9999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632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3T08:25:05Z</dcterms:created>
  <dc:creator>Alexey Zhilin</dc:creator>
  <dc:description/>
  <dc:language>en-US</dc:language>
  <cp:lastModifiedBy>Alexey Zhilin</cp:lastModifiedBy>
  <dcterms:modified xsi:type="dcterms:W3CDTF">2004-07-21T14:36:58Z</dcterms:modified>
  <cp:revision>66</cp:revision>
  <dc:subject/>
  <dc:title>Header of the slide</dc:title>
</cp:coreProperties>
</file>