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AEC2-C6D1-4030-8E5D-1FBEBEC20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3520" y="3756240"/>
            <a:ext cx="76960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71F7-6CCC-444B-A72A-DF5B8AEB8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773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520" y="375624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477320" y="375624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D6B0-EFCB-4EEB-BAC4-F98A91A75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5600" y="144792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737680" y="144792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33520" y="375624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5600" y="375624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737680" y="375624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E162-EB42-4022-98E5-FD59E3EFE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E937-C43E-4B21-8578-3BF17FDE9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14B9-000C-4AD6-A3F5-594CE6ACC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555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477320" y="1447920"/>
            <a:ext cx="37555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B4E6-BB15-40F3-8A80-F976A67DE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EB83-758D-48F2-BB8F-1ABA2FB95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52480" y="38160"/>
            <a:ext cx="6400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0CE7-2145-4925-8C18-FDFFBE914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477320" y="1447920"/>
            <a:ext cx="37555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33520" y="375624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8BF8-1941-46EA-8D63-E55CD1330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555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4773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477320" y="375624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2880-CB40-4276-B9D8-6CF447E8A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773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3520" y="3756240"/>
            <a:ext cx="76960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33FE-1485-4FDF-8AE0-5A22AFC1B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, slide </a:t>
            </a:r>
            <a:fld id="{48486156-E803-4431-9B8D-36199F86DC08}" type="slidenum"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1CDFE-9CAB-4661-87A8-BADBFEFE3D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age" descr=""/>
          <p:cNvPicPr/>
          <p:nvPr/>
        </p:nvPicPr>
        <p:blipFill>
          <a:blip r:embed="rId2"/>
          <a:stretch/>
        </p:blipFill>
        <p:spPr>
          <a:xfrm>
            <a:off x="152280" y="195120"/>
            <a:ext cx="8763120" cy="65217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914400" y="6172200"/>
            <a:ext cx="26668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The (Active) State of Tc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tcl.sf.net/" TargetMode="External"/><Relationship Id="rId2" Type="http://schemas.openxmlformats.org/officeDocument/2006/relationships/hyperlink" Target="http://tcl.sf.net/" TargetMode="External"/><Relationship Id="rId3" Type="http://schemas.openxmlformats.org/officeDocument/2006/relationships/hyperlink" Target="http://tcl.sf.net/" TargetMode="External"/><Relationship Id="rId4" Type="http://schemas.openxmlformats.org/officeDocument/2006/relationships/hyperlink" Target="http://tcl.sf.net/" TargetMode="External"/><Relationship Id="rId5" Type="http://schemas.openxmlformats.org/officeDocument/2006/relationships/hyperlink" Target="http://tcl.sf.net/" TargetMode="External"/><Relationship Id="rId6" Type="http://schemas.openxmlformats.org/officeDocument/2006/relationships/hyperlink" Target="http://tclpro.sf.net/" TargetMode="External"/><Relationship Id="rId7" Type="http://schemas.openxmlformats.org/officeDocument/2006/relationships/hyperlink" Target="http://tclpro.sf.net/" TargetMode="External"/><Relationship Id="rId8" Type="http://schemas.openxmlformats.org/officeDocument/2006/relationships/hyperlink" Target="http://tclpro.sf.net/" TargetMode="External"/><Relationship Id="rId9" Type="http://schemas.openxmlformats.org/officeDocument/2006/relationships/hyperlink" Target="http://tclpro.sf.net/" TargetMode="External"/><Relationship Id="rId10" Type="http://schemas.openxmlformats.org/officeDocument/2006/relationships/hyperlink" Target="http://tclpro.sf.net/" TargetMode="External"/><Relationship Id="rId1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purl.org/tcl/wiki" TargetMode="External"/><Relationship Id="rId2" Type="http://schemas.openxmlformats.org/officeDocument/2006/relationships/hyperlink" Target="http://www.purl.org/tcl/wiki" TargetMode="External"/><Relationship Id="rId3" Type="http://schemas.openxmlformats.org/officeDocument/2006/relationships/hyperlink" Target="http://www.purl.org/tcl/wiki" TargetMode="External"/><Relationship Id="rId4" Type="http://schemas.openxmlformats.org/officeDocument/2006/relationships/hyperlink" Target="http://www.purl.org/tcl/wiki" TargetMode="External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cs.man.ac.uk/fellowsd-bin/TIP/" TargetMode="External"/><Relationship Id="rId2" Type="http://schemas.openxmlformats.org/officeDocument/2006/relationships/hyperlink" Target="http://www.cs.man.ac.uk/fellowsd-bin/TIP/" TargetMode="External"/><Relationship Id="rId3" Type="http://schemas.openxmlformats.org/officeDocument/2006/relationships/hyperlink" Target="http://www.cs.man.ac.uk/fellowsd-bin/TIP/" TargetMode="External"/><Relationship Id="rId4" Type="http://schemas.openxmlformats.org/officeDocument/2006/relationships/hyperlink" Target="http://www.cs.man.ac.uk/fellowsd-bin/TIP/" TargetMode="External"/><Relationship Id="rId5" Type="http://schemas.openxmlformats.org/officeDocument/2006/relationships/hyperlink" Target="http://www.cs.man.ac.uk/fellowsd-bin/TIP/" TargetMode="External"/><Relationship Id="rId6" Type="http://schemas.openxmlformats.org/officeDocument/2006/relationships/hyperlink" Target="http://www.cs.man.ac.uk/fellowsd-bin/TIP/" TargetMode="External"/><Relationship Id="rId7" Type="http://schemas.openxmlformats.org/officeDocument/2006/relationships/hyperlink" Target="http://www.cs.man.ac.uk/fellowsd-bin/TIP/" TargetMode="External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cove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276720" y="624852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(Active) State of T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The Maintainers…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7432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cl (TIP #24)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k (TIP #30)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371600" y="3814920"/>
          <a:ext cx="6172200" cy="1214280"/>
        </p:xfrm>
        <a:graphic>
          <a:graphicData uri="http://schemas.openxmlformats.org/drawingml/2006/table">
            <a:tbl>
              <a:tblPr/>
              <a:tblGrid>
                <a:gridCol w="1447920"/>
                <a:gridCol w="1676160"/>
                <a:gridCol w="1676520"/>
                <a:gridCol w="1371600"/>
              </a:tblGrid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len Fli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ter Spju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dd Helf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Smi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édéric Bonn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Griff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ngye Ma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1371600" y="1981080"/>
          <a:ext cx="6172200" cy="1219320"/>
        </p:xfrm>
        <a:graphic>
          <a:graphicData uri="http://schemas.openxmlformats.org/drawingml/2006/table">
            <a:tbl>
              <a:tblPr/>
              <a:tblGrid>
                <a:gridCol w="1447920"/>
                <a:gridCol w="1676160"/>
                <a:gridCol w="1676520"/>
                <a:gridCol w="1371600"/>
              </a:tblGrid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niel Steff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guel Sof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lf Schroed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Scriptics/Ajuba…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Scriptics became Ajuba Solutions in May 200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Interwoven: content management company in need of B2B…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1"/>
              </a:rPr>
              <a:t>http://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4"/>
              </a:rPr>
              <a:t>sf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5"/>
              </a:rPr>
              <a:t>.net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Pro open sourced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6"/>
              </a:rPr>
              <a:t>http://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7"/>
              </a:rPr>
              <a:t>tclpro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8"/>
              </a:rPr>
              <a:t>.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9"/>
              </a:rPr>
              <a:t>sf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10"/>
              </a:rPr>
              <a:t>.net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5565600" y="439560"/>
            <a:ext cx="433440" cy="417600"/>
            <a:chOff x="5565600" y="439560"/>
            <a:chExt cx="433440" cy="417600"/>
          </a:xfrm>
        </p:grpSpPr>
        <p:sp>
          <p:nvSpPr>
            <p:cNvPr id="163" name=""/>
            <p:cNvSpPr/>
            <p:nvPr/>
          </p:nvSpPr>
          <p:spPr>
            <a:xfrm>
              <a:off x="579096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67000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566964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6181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561744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61744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56560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Tcl/Tk at SourceForg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SourceForge provides a wealth of services for open source projec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Bug and patch 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CVS reposi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ile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p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Managed by TCT and Tcl/Tk maintainer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c0128"/>
                </a:solidFill>
                <a:latin typeface="Times New Roman"/>
              </a:rPr>
              <a:t>Not</a:t>
            </a: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 the Tcl Developer Xchang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cl @ ActiveStat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tiveState established 1997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ing for the Peopl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eff Hobbs hired in Feb 200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reas Kupries follows soon afte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ealth of scripting knowledge at ActiveStat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ctiveState and Tc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876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ctiveState provides the Tcl community with…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omodo 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http://aspn.ActiveState.com/ASPN/Downloads/Komodo/M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PN/T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http://aspn.ActiveState.com/ASPN/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Enterprise/TclDirect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essional services: training and consul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In the Community…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he Tcl’ers Wiki has increased in activity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7c71"/>
                </a:solidFill>
                <a:uFillTx/>
                <a:latin typeface="Times New Roman"/>
                <a:hlinkClick r:id="rId1"/>
              </a:rPr>
              <a:t>http://www.purl.org/</a:t>
            </a:r>
            <a:r>
              <a:rPr b="0" lang="en-CA" sz="2400" spc="-1" strike="noStrike" u="sng">
                <a:solidFill>
                  <a:srgbClr val="007c71"/>
                </a:solidFill>
                <a:uFillTx/>
                <a:latin typeface="Times New Roman"/>
                <a:hlinkClick r:id="rId2"/>
              </a:rPr>
              <a:t>tcl</a:t>
            </a:r>
            <a:r>
              <a:rPr b="0" lang="en-CA" sz="2400" spc="-1" strike="noStrike" u="sng">
                <a:solidFill>
                  <a:srgbClr val="007c71"/>
                </a:solidFill>
                <a:uFillTx/>
                <a:latin typeface="Times New Roman"/>
                <a:hlinkClick r:id="rId3"/>
              </a:rPr>
              <a:t>/</a:t>
            </a:r>
            <a:r>
              <a:rPr b="0" lang="en-CA" sz="2400" spc="-1" strike="noStrike" u="sng">
                <a:solidFill>
                  <a:srgbClr val="007c71"/>
                </a:solidFill>
                <a:uFillTx/>
                <a:latin typeface="Times New Roman"/>
                <a:hlinkClick r:id="rId4"/>
              </a:rPr>
              <a:t>wik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he Tcl Developer Xchange has moved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http://www.purl.org/net/tclh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http://tcl.ActiveState.com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cl-URL! continues to provide weekly news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http://www.ddj.com/topics/tclurl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http://tcl.ActiveState.com/tclurl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Lots of extension updat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cl/Tk Today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72392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wnload rate steady (~30,000 / month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: 6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: 4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nly patch releases since last yea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ble release now at 8.3.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ly new I/O core (for 8.3.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degree of st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d locale support in 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Tcl/Tk 8.4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erimental release, now at 8.4a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ill in feature-add mod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w ‘spinbox’ widge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ral minor core feature enhancemen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gnificant work on performanc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 or better than 8.0, with unicode and thread safe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Several TIPs in the pipelin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virtual file system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set’ comm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EA 2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Future Direction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core is guided by community inpu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one can write a T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one can be a core maintai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issues are most pressing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pen discuss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cl Roadmap Pol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6704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mprove Tcl performanc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rchive file support (.jar/.zip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arger source distribution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arger binary distribution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cl Installer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and-alone executable support in core (*wrap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462560" y="1447920"/>
            <a:ext cx="376704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maller, more modular cor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rag &amp; Dro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indows Tk Performanc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nting suppor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k abstraction layer (TkGS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gawidgets (roll your own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w Widget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1371600"/>
            <a:ext cx="8610480" cy="25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1309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309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309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reas Kup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309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genda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has happened since Tcl’Europe 200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velopments in the Tcl communit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velopments of the Tcl/Tk co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ture directio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istory of Tc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76000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76000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76000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76000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76000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344080" y="259092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03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 flipV="1">
            <a:off x="3886200" y="3276720"/>
            <a:ext cx="0" cy="1923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209680" y="3257640"/>
            <a:ext cx="0" cy="885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924600" y="2157480"/>
            <a:ext cx="0" cy="804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90512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Recent History of Tc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419640" y="5025960"/>
            <a:ext cx="299052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952880" y="1952640"/>
            <a:ext cx="0" cy="1009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781440" y="134316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3124080" y="3276720"/>
            <a:ext cx="0" cy="1923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31904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" y="2971800"/>
            <a:ext cx="42670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495680" y="2971800"/>
            <a:ext cx="42292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05520" y="2590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38240" y="3772080"/>
            <a:ext cx="92844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644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80980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42880" y="3648240"/>
            <a:ext cx="98604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419640" y="3648240"/>
            <a:ext cx="100944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53972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4019400"/>
            <a:ext cx="192420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86728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705720" y="15098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105520" y="352440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553080" y="480060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 ASPN/Tcl Launch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8580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7848720" y="3276360"/>
            <a:ext cx="0" cy="618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543800" y="3895560"/>
            <a:ext cx="74304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3024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3992400" y="4608360"/>
            <a:ext cx="433440" cy="417600"/>
            <a:chOff x="3992400" y="4608360"/>
            <a:chExt cx="433440" cy="417600"/>
          </a:xfrm>
        </p:grpSpPr>
        <p:sp>
          <p:nvSpPr>
            <p:cNvPr id="136" name=""/>
            <p:cNvSpPr/>
            <p:nvPr/>
          </p:nvSpPr>
          <p:spPr>
            <a:xfrm>
              <a:off x="4217760" y="47300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096800" y="46083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4096440" y="46083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044960" y="46429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044240" y="46429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044240" y="47998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92400" y="47282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6886440" y="2895480"/>
            <a:ext cx="76320" cy="15264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tatus as of Tcl’Europe 2000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une 200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cl/Tk 8.4a1 recently release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cl/Tk 8.3.1 was the stable version (now part of Red Hat and SuSE standard distributions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riptics (now Ajuba) was focusing on B2B applicatio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med in August 2000 with 14 charter members based on community voting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med to collectively manage development of the co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ow… Tcl Core Tea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752480" y="2392200"/>
          <a:ext cx="4648320" cy="2556000"/>
        </p:xfrm>
        <a:graphic>
          <a:graphicData uri="http://schemas.openxmlformats.org/drawingml/2006/table">
            <a:tbl>
              <a:tblPr/>
              <a:tblGrid>
                <a:gridCol w="2324160"/>
                <a:gridCol w="23241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arl Lehenbau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k Harri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chael McLenn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. Richard Hip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rey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Ousterho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Howlet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ent Wel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TCT: TIP Initiativ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Started TIP process for Tcl</a:t>
            </a:r>
            <a:br>
              <a:rPr sz="2400"/>
            </a:b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1"/>
              </a:rPr>
              <a:t>http://www.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2"/>
              </a:rPr>
              <a:t>cs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3"/>
              </a:rPr>
              <a:t>.man.ac.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4"/>
              </a:rPr>
              <a:t>uk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5"/>
              </a:rPr>
              <a:t>/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6"/>
              </a:rPr>
              <a:t>fellowsd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7"/>
              </a:rPr>
              <a:t>-bin/TIP/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focus i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Currently 34 TIPs (9 active project TIPs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cl/Tk maintainers are a separate grou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CT discussion is open on the public mailing list:</a:t>
            </a:r>
            <a:br>
              <a:rPr sz="2400"/>
            </a:b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800" spc="-1" strike="noStrike">
                <a:solidFill>
                  <a:srgbClr val="000000"/>
                </a:solidFill>
                <a:latin typeface="Lucida Console"/>
              </a:rPr>
              <a:t>tcl-core@lists.sourceforge.ne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Tcl/Tk Maintainer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Maintainers oversee a specific area of the core, as defined in TIP #16 for Tcl and TIP #23 for Tk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hey assist, but are not solely responsible for, fixing  bugs and adding documentation in their are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hey are responsible for reviewing code and approving code changes to their are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Open to anyone willing to learn the co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New volunteers always welcom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ll User</cp:lastModifiedBy>
  <cp:lastPrinted>1999-01-02T23:07:33Z</cp:lastPrinted>
  <dcterms:modified xsi:type="dcterms:W3CDTF">2001-06-01T10:19:00Z</dcterms:modified>
  <cp:revision>388</cp:revision>
  <dc:subject/>
  <dc:title>The (Active) State of Tcl, 2001</dc:title>
</cp:coreProperties>
</file>