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616171-D4E1-486A-8FBA-5C67CABAE3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6C2F1A-F628-4B8D-A0C8-FE070686BB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510011-5168-4731-B177-6A7025ACD0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08F3A1-410B-4AB9-BE24-1C687CDF3E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97BD3EA-2180-4905-B5FB-84DE65345A6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6D6FE0-53FD-4FAB-BE4B-128D02C7F9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570B65-A010-4110-92BE-7DDB8D1C3B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4CEB4D-FA02-46B7-B68C-71BBE1070C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832A61-D257-4DAB-B787-3AD24319DC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CA5576-006E-48CC-9D45-80F8E9BF8C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2B14F6-4BE8-4BD4-B632-956A22B40C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22075C-231E-489E-BEC0-B368615640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812729-184A-4FD2-8E3E-6AE5EDA436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A16E69-56D6-48C8-95D6-7685D33789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40D90E-DEB3-4EE1-8013-332D342B80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907BF7E-22B7-4CBB-9E16-D31AF84707B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2610C92-5C6E-47A4-ABA8-34635C60EE2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0ED6F2-F07A-42A4-B353-C6370E8A0D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63BFDF-DCFD-4963-B3C1-3A7CCB6FAD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0EA0D3-DB78-4B51-9C88-D59AA56929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E3B297-3533-45D4-96FF-750982810B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9FE338-43CE-4234-8407-C948D35D91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FFB264-2F78-4B14-91F8-DF1DAF2416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D2BD05-D6D7-4943-A6FD-E42F874C72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03588D-F9B2-44C9-887A-F87623EA032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05B06D-B6D8-474E-84A3-B7BEA77CC42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90FD341-4813-463B-9411-2C4753DB8DD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FE8391C-B5DB-4C9B-AB0B-90E4EF8765D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D99BB3-760A-46B1-8D62-5E400B68EB62}"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2051C7-4619-4F8B-A45C-ECB5632314C4}"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CB80FA-D950-4E82-A5AE-FD9B0A19D645}"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9B16A4-0D3D-409B-B3B9-7B903E2302F5}"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663FC6-BFDC-4F07-90B0-C08195342169}"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A38577-942F-441C-9D90-7CA9591063EB}"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B280D2-23C5-4FD5-87A7-A07249800FA1}"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ED256E-20E1-42F1-872E-A05B32EF59BF}"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AF7B93-B3AD-4ACE-8CE6-B66C9C6A9E38}"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720BE5-2797-4C9C-8277-D4DA2D053F34}"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9A6DA8-83F7-42AF-BBD3-D6C9E3F8C784}"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793005-317C-4EB3-BA94-3B0F46D85F36}"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A6F149-896A-435B-AA18-B4A8E7DCD406}"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6DC64B-7504-413E-9F32-AB7218B9D926}"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8AA3DB-39FC-48DF-8BE4-6CBFF55B4631}"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865E33-15CE-42CE-87CB-E38E7737E2E3}"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F4C987-B578-4FF5-949A-11FDA9191EA1}"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F04277-2B4B-4045-B451-2E4D6595A88A}"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912632-7F55-428F-9696-E557A1371126}"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6954C9-FDD2-4DB5-B206-148EBD99E0A8}"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17234E-2A35-4B8B-B42E-807E25E2CC0D}"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31D04E-89AE-47DC-82B9-0670FA0EEDFB}"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5A6FDE-FB87-4EF5-9AC4-CB915AFFD15D}"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E2DBA1-2278-46D8-8C1C-0C5C08060F01}"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359B2F-1A04-45D5-BB64-09A0532AAE0E}"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D9E4F2D-2074-4C54-AAAD-88EB2536D3AA}"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03AB4B-D3A4-4E86-8C91-A217F9F361FB}"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475872-D165-41DA-98B3-4037F0F388FE}"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E25CE3-8FB0-4772-9471-A1F8E063B5FA}"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4A8618-D888-4D6B-A8F0-F89AA427D9BF}"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67244F-69F3-484A-A9E8-2C597E2420A5}"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7F8B37-E41D-48E7-9B9D-999F33632855}"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323217-8EC2-4BA1-9EA0-5B950862F594}"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AB1522-29BA-4D26-AB93-76E0BB95D579}"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F89338-AE7B-4572-A35F-CDBE1B4F896A}"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E3F8CD-3483-49AA-AE25-8DF416014D44}"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7BAC2D-9B98-422C-A16E-7C6E7A034C5A}"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200CCA-B165-444B-9D40-A48353603444}"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5A60D2-2EDC-4307-A06C-927EA6D4F575}"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D173C9-A624-4E7B-B081-9AC2319DEA49}"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2B29DD-3102-49A0-B20A-72DE5A7CA92B}"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3A1A6D-8061-49A4-B19E-7FAD51AC33C8}"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79B6FF-4F1C-4F81-B789-C0916354B71D}"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921970-988C-44FB-B6D4-CA0C483552D7}"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E06150-4D09-4D95-A927-29AF0CFA4FFD}"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2B1C2D-8368-4A66-9A75-7532BA20B33B}"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0815591-F077-426E-A184-289AE2BD593C}"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5A9CF0-22D7-49CB-BC5C-1238AC516325}"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149B7B-684A-46AF-8584-9CBFA21ABB59}"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1344856-BF5B-49A7-BF71-826240125BEF}"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36AD2E-6F50-4D08-9275-C098007B6F36}"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0524DB-6367-4E05-954E-5685E27D3C9B}"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908DBE-481A-4B23-A9CA-B7836A6D2143}"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281249-7FAA-43D8-8CB9-3DAD77748E64}"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981D4C-C85C-478B-A65C-9089519B71E4}"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3663F5-570D-4A33-A2ED-030424F2BDF1}"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C3389E-8CEC-4694-859C-CE5C477E957D}"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22E00C6-191E-44E5-9832-7AFD18A3B36B}"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DE2D0D-BA59-427A-833B-C66EB90569B7}"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7B9F60-0B77-4280-80F2-C852544CBA77}"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8207E1-EEE0-4CB3-81BE-FD74066E9B9F}"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8C17B7-A5C5-4248-B52F-6B2DBEC6F3F2}"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5A5F17-97EA-4C84-97E0-BBE9E66EAAD6}"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7D7F90B-63DE-4A01-87D8-6A2C1B028F20}"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1E9DFB-30C5-4A0E-8D1C-D806A30D6785}"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F524CC-F825-45B4-8EAB-47EB21076DEA}"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746BB2-B647-488C-9C89-2B73A78C44B6}"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252CD0-A5AE-4045-BA00-EF6D942B33E5}"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A50ABA9-26A4-4921-8968-9CB898A1B22C}"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3A2A3B-60B5-4F57-A156-6A16F0109A8A}"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EECCBA-478A-4AC8-BD58-D3A0CC2F04AC}"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0FEA03-DCA5-4351-A785-DDC9AE53D7C4}"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3FDA84-C418-496C-9718-18810FBB253E}"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0C1147-C70D-4BFB-A302-21931479D9A5}"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C87D25-40B6-4661-BD99-D27F9EF4C409}"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81124C6-E310-4BA1-BFDE-933330C7071D}"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C854D9-A022-4D62-93F8-3E65D17974D5}"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03BC6D-2A6A-433D-84C1-C85322CF2825}"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A8FECB-5ABC-4C55-B6C8-470E954C94DF}"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B7CA774-9AE8-4772-9186-308333564029}"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08ABE7-7365-495B-9A1A-93D7ED6C1DC1}"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800B798-DF05-4723-B014-2CA0F8B48EB3}"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80F778-01F0-4FC2-9C24-CDFC8D23EE83}"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165BDB-6FF0-4215-8529-270F449D7880}"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0AC6AD-9E15-4608-8C4D-639C077B4A8C}"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6FF744-71F4-40BC-B191-C39FB440F768}"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0FD2DA-CD02-40A6-B575-28BAD47CB823}"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0FC9DD-738F-4EB5-81E4-0264510E4B97}"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4C2B63-7B71-4CD8-A0C6-74E5A64E44B0}"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88ED77-71CF-4383-BD3D-9F4CD2311B53}"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54B423-DC91-4335-910B-350EBA172F65}"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346F39-4A39-4937-AF00-BD31269F4178}"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8FB666-7B74-467C-A782-1813BA04BC4F}"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B664E0-09C1-403D-BE4B-EA34626D8D57}"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62211C-B91B-44E8-A764-C5A9A2AB735F}"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D95EA6-6210-4A88-87E8-B094757D3CEE}"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59DEF8-EDF4-4918-A639-29256EC32DBC}"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246EF00-A450-4F07-915A-12FB732F6176}"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A6F778-2217-42E3-8E0E-CF4F9627A62E}"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D5E4FB-CD88-4F49-B874-D35D372C2301}"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EB6AC4-9220-4ECA-A49B-9DC4135DF330}"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F4BCF4-8E99-4890-9D36-6BFB3E230A4D}"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E4B41B-5407-4B49-BDF3-8B9744C5FEE8}"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005AB9-FFFE-4B8D-A9AE-F8B14246B1CD}"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C47834-C365-4624-965E-24A015A8A943}"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D52268-808F-4029-940C-D008A3D6F174}"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CB2394-A5FA-45FA-A1FC-CF7A522C85BA}"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B480EF-1676-4BAE-B45B-38C6538C4BC6}"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B5870D-1E0C-4BA3-AC8E-A08FB5DC043E}"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D0ED3C-B602-41D8-957C-6775C787CF1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3648CE-2499-4270-AD9D-39B2FC1E60B1}"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1031CC-94BF-4E49-BA71-DC03E5F8DD82}"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4CE81A-4E64-403E-952D-0CA5E4D147D0}"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FDA40B-0032-4105-9141-4BBC07E1635C}"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B36CC9-4EFE-4784-B09B-9BD0E9AC7711}"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6686BB-19A1-4407-8052-7873DD52B4EA}"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4F015B-A4F8-4201-9DC5-246F2520087E}"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64337F-5D05-4D8E-B0BD-86AB850AA1D3}"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CF0889-42F1-41E8-B243-0A131637DFF3}"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20D099-9CCE-4633-9F54-B0BC4DC2E299}"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7F1362-28F2-4EE3-8825-2DC5E41FBA7B}"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4DBB27-73BB-4E54-8A7A-3CACB70691BC}"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7A257B-FFDE-45F4-BA8C-3FFAD6121988}"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9D0A5F-2B27-46C1-BAFA-C3C6D4A603D7}"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82D7C7-0B34-47BA-B02C-A7221DA7ABB3}"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BD2C3F0-7FD5-49FB-8C26-879FC22E6148}"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AB9C84-D0A7-49CE-BCB6-D9931BD6AD0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CAABAB-CAAE-433B-9077-E8397FBF4C1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31ADE0-6E86-48B9-A2A4-A4A5FE6DF4E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257B03-76CA-4DEB-9BAB-F78DAAE5E3F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270F0C-CBA5-464B-A8B2-B7D5A179B7E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597E17-A2EC-4EE8-987D-CAA37BEE303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8829758-B4B0-4E93-9559-1CB2EC60903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014352-17CE-4225-9DE9-6BB57C9487F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2BD214-FDEF-48AA-B4E2-8FE94EC122C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942FA3-688C-4BC0-A784-8954A9E5F35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60CBBE-EDC6-4A3E-8E4D-08AFAE13307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0C5910-2C95-4BD9-9D6C-4E0A0D82208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CC6346-5B5C-4DC4-9B5D-BA41261D35A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4E982D-3EA8-46B5-8971-87C184EB39F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EC5732-DC71-42DA-A7DA-D9ABDF8523F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60B138-3E30-44E2-AB91-4DBEDF6D5A6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743E7F-BF96-4492-8991-1CA042BDFD5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D28743-319E-40FE-A044-CCFB1564C21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8A0FFE-BB48-46C1-8B3A-7A07BFF6E70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04B8EC-4C31-4E64-9917-57ED53FDE40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62210D-F896-4039-A911-2372308FA69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FCDDE8-7AB0-4DF7-94D1-DEFE3AF0C2B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BBAE44-A682-4217-8B1E-9C53D2B344F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807540-2EF2-4540-94E1-ADB2975CA4E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143270-3F6F-4661-92D8-B969D662D6F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FCC564-4835-4230-AF0E-25A0F74953B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96E576-B293-4526-A2F5-DB3657ECAD5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B9D880-C92C-41B9-8877-040B789D4EC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6DB75A-5F65-4AC1-B1EF-58A80C9E151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DE97AA-EDEE-451A-AA21-0E0C5774773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B53125-6A81-42F1-8496-D9629521E71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024DBF-C864-40F0-9DEC-37AE03F429C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A921B3-932B-4AE8-80C6-2AF114F15F3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483725-9AF2-4339-8324-D6170AE2CCE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693477-2E2C-4E7D-B1C5-2F490E778D5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C01CD7-53BC-4783-AFEA-8930C971335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90E74F-631D-45B8-BAF9-446EA485B56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5EB5EB-C4AA-43C9-AEF9-3031465AB8B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398D49-04CF-41B1-AC29-F1F1EADC6E7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A02CA0-992E-4FD3-82F1-EBCFFCF2281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3224D3-44DD-4EB6-BCBE-AF1C08072DA2}"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8C2D06-0BA3-45D7-B743-9D91C23D88B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6BCCEF-4048-4FC0-85D1-EE5C16BFDBA0}"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1A60AC-2AE4-4B30-9374-8B45CD9A8583}"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780E3D-7F48-46E8-8E48-E5553544D36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2E8B58-1D77-43A4-9E3B-993DD6DB7D5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E76D4B-C4EB-4B8E-B612-43FED11D64D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8D84A29-F68D-4546-A692-CF1641A8437C}"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8B8281-7738-4362-9988-206409C4E25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08D2D9-2555-47AF-8016-6BBF824651DC}"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7E1FBE-2841-415B-B0A3-DE9D88C58244}"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1CCD37-43A4-4946-BDFD-25C7FFABF773}"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ABAC00-BB17-40C8-9763-9B575D99B0D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C1D645-2E96-482E-A355-2B7E580B8846}"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9FD24D-47DE-4F0C-BC49-52E8CA91264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B11BC7-F7A9-42D9-9D2E-0D889102413B}"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5BD17A6-FA0F-41F5-9C3A-66B373ED80E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ED7F2F-44F8-4DE9-9AE6-CFF43E2A9C1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C89D15-5C87-4E13-B00E-BEDE1CA6E19E}"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E4D622-43C7-4671-B892-F48D929DC086}"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E46BFB-5842-4DFC-884C-02DC22EDC0B1}"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812226-2266-494D-B9A0-E1727130D1FE}"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9ECB3C-15C9-4B60-A007-70229FF15DA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5C49F6-D51D-4C08-9620-2311824D4473}"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5D3274-BCB8-4E7D-9D4C-B77E96B6D96D}"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5262A6-A24D-40A5-962B-28E5E393013D}"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9077DC-6B42-405A-BB2E-17AD228E70C6}"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C35E0F-45CB-4CE9-B2F0-50FAE912F4E2}"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A9F991-3D32-437E-8F5A-A732389021F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3CC06E-AD6A-4DE6-B394-78FC4BD9767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3F4162-4818-411B-AC97-33808B439B15}"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98C20E6-65DE-47C0-B597-76A19AC65539}"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221164-2F8D-47B5-AFC8-159771760380}"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E74B75-5589-4C86-8A97-3EC7F085EFB9}"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585507-FC1E-46FE-B392-0CF06A00666F}"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C438DA-F58E-4123-BFC1-59B3FAAA6EE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92E4DB-D03A-44A2-A7B9-231B3AC0E69D}"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A5423B-74ED-49AD-B64B-B69DF0149CAD}"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5DEA2F-1BF5-4739-90AF-298771D4B042}"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268E25-8685-4089-9D61-0876551CA58C}"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1DFD41-0833-4C59-AC89-336F2B3E3AB0}"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1B032F-C45A-4753-BA17-CC16292885CE}"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A96157-6C7A-4EF4-8648-B13AECC3C876}"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C75BD5-2FF6-4BF7-A85D-9BC8BABEBEB3}"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F40C60-4713-4BAE-9E93-488E7810648E}"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