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78786"/>
        <c:axId val="20377057"/>
      </c:barChart>
      <c:catAx>
        <c:axId val="299787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77057"/>
        <c:crosses val="autoZero"/>
        <c:auto val="1"/>
        <c:lblAlgn val="ctr"/>
        <c:lblOffset val="100"/>
        <c:noMultiLvlLbl val="0"/>
      </c:catAx>
      <c:valAx>
        <c:axId val="203770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787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0D7-15C7-4A07-8B03-5EEC4F7B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2144-B357-406E-8F03-FF916D88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5EE3-8576-41CE-BBFB-26CC01C6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0916-EEE0-40D5-8CE5-5933B114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763-54D8-4D99-A251-75980351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6C40-2A1A-4E70-973C-2C07B093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3288-4FDE-4F3E-BC7F-61FAA28D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9261-6B87-4EA5-ACE4-4BA2F272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43BE-2B49-4DB9-8E64-8775AF6C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B6D9-2C8D-4D22-990B-CEB469FD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8EF8-61DC-4362-97EC-4403F712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0588-0C52-4DFE-BFE4-4B6E18BD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0BB57-71F9-4A3B-92A6-DF67453822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