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68918"/>
        <c:axId val="80167887"/>
      </c:barChart>
      <c:catAx>
        <c:axId val="86068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67887"/>
        <c:crosses val="autoZero"/>
        <c:auto val="1"/>
        <c:lblAlgn val="ctr"/>
        <c:lblOffset val="100"/>
        <c:noMultiLvlLbl val="0"/>
      </c:catAx>
      <c:valAx>
        <c:axId val="80167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68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DA0-DA18-47A7-8734-DE3741E3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326-121D-4990-98C0-DC2A8291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0C9-6BDC-41BE-A144-103937C0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916-ED75-4339-B7DD-BF17BCA0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B2C-74B6-465E-B7AF-BE68B54A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E97-452B-4585-8F06-DA1AF8EF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29E-CBB2-4239-9E35-69F85167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A56-9A27-45B6-BE16-79F8C583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91E-A9E6-4230-8B59-0D67D84E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FDB-61AD-4376-AC82-99C86DC1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7FF-23AC-4AE5-8696-518F75D3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FA9-6AC6-4835-AA80-BCBFF847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E5A70-1BC5-45E0-B2F7-9A0F7AEFF1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