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21122"/>
        <c:axId val="83066776"/>
      </c:barChart>
      <c:catAx>
        <c:axId val="85021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66776"/>
        <c:crosses val="autoZero"/>
        <c:auto val="1"/>
        <c:lblAlgn val="ctr"/>
        <c:lblOffset val="100"/>
        <c:noMultiLvlLbl val="0"/>
      </c:catAx>
      <c:valAx>
        <c:axId val="83066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21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E05-A81A-4E93-8FB7-1DA92B62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604-AB38-40BD-9BF5-85341AA7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E3D-9542-4994-9567-91F7073B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D83-BCAC-4DBB-B03C-0C4E8C56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477-E6BA-473C-A1A2-2605C58A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EC7-7C5F-4372-9772-FE65FB1A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FBD-5F62-4C50-96C1-408B1889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1C3-0A2E-4B2E-9F05-BE9EBADA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CDA-02F5-4602-8CF1-8A40CA04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217-EEEA-4A8A-B99C-FB586109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69F-B3BA-49D8-AEA2-17D3DD75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D77-6F44-4A03-9B2D-71C0DF34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3DEE4-C6CB-4C7B-952F-AF6AB5D42B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