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04284"/>
        <c:axId val="42924544"/>
      </c:barChart>
      <c:catAx>
        <c:axId val="80604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4544"/>
        <c:crosses val="autoZero"/>
        <c:auto val="1"/>
        <c:lblAlgn val="ctr"/>
        <c:lblOffset val="100"/>
        <c:noMultiLvlLbl val="0"/>
      </c:catAx>
      <c:valAx>
        <c:axId val="42924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04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111-2B1B-41C6-890D-2CF04110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901-B5DF-4753-9127-17E98553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427-71DD-4E69-8B86-D2E1ADF2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C80-E82D-4C6F-A40F-2D2DBC6E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9FE-76B3-4A61-A7D2-A1357C54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AF9-C5B0-4E49-BCB9-C9A6F479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652-3FB3-41C3-9C31-C660A164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04A-42C2-4D47-BA50-4DD31293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069-D265-4D1E-A171-F53E7A54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FEC-AB2B-4865-A142-D25AF98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D54-39D7-4679-9638-9B4D193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6BF-6222-4EEE-B19A-47A47C3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73DCB-6FC1-4ECF-AC33-AD954A9FF8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