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4119"/>
        <c:axId val="45548702"/>
      </c:barChart>
      <c:catAx>
        <c:axId val="38241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48702"/>
        <c:crosses val="autoZero"/>
        <c:auto val="1"/>
        <c:lblAlgn val="ctr"/>
        <c:lblOffset val="100"/>
        <c:noMultiLvlLbl val="0"/>
      </c:catAx>
      <c:valAx>
        <c:axId val="455487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41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C46-3A55-4153-951D-C0710FE5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A260-14CB-4092-AC49-3BEE92DF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CBD-3AC4-4A02-8759-98C379ED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B699-5C6B-4C10-9194-C7500FA5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FDC5-5692-4BDA-BF4E-1F39E519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271C-E8DE-4618-A04C-D9952A0D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F493-D972-4A07-898E-D1FA781A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3D1-BE89-4B3F-9066-B7D3582B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C16-5977-466B-8C06-F9DF6F15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97FC-7C5E-4E5F-9ACD-1C24B2DB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0FD-CDF9-4847-B1E9-80E1B60E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728E-BF45-4417-B02B-8043536B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9F597-A64C-4464-ABC0-BA5FB8A2B3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