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22379"/>
        <c:axId val="87542523"/>
      </c:barChart>
      <c:catAx>
        <c:axId val="55222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2523"/>
        <c:crosses val="autoZero"/>
        <c:auto val="1"/>
        <c:lblAlgn val="ctr"/>
        <c:lblOffset val="100"/>
        <c:noMultiLvlLbl val="0"/>
      </c:catAx>
      <c:valAx>
        <c:axId val="87542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2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9B4-967D-4055-AD8B-1D33FDEF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37F-E6C8-4D48-A74B-3DAA1A7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D9F-EA10-4A6D-B7E3-2178F55D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F0E-F79F-4F1A-926D-2801176F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4E0-D511-476A-AA53-19A1E9C7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E78-174E-4915-8465-72C5EA0A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12B-1BE6-4282-A90D-99905EB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25E-E00B-4B89-A0B1-39A3D67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AE5-754C-4D26-9BE3-BEAD5280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BDF-E45F-47A9-A5E1-58327EED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B5A-9CE0-4A8F-B0C5-5429336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39C-AE07-4A6E-88B3-1944782F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DC0A8-3946-49FD-87D7-27B0254D03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