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03964"/>
        <c:axId val="5881761"/>
      </c:barChart>
      <c:catAx>
        <c:axId val="73803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1761"/>
        <c:crosses val="autoZero"/>
        <c:auto val="1"/>
        <c:lblAlgn val="ctr"/>
        <c:lblOffset val="100"/>
        <c:noMultiLvlLbl val="0"/>
      </c:catAx>
      <c:valAx>
        <c:axId val="5881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03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F2D-FAFD-4DEC-B0D0-C6D42481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7FB-3F76-4729-89C8-8D02C792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C36-CA0A-4091-B79C-EEB2624C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181-319A-4781-AC4E-2CDFE5C9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599-6B8F-47B5-8C6A-D3D3242E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202-B0BB-4E05-9311-B818B055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ED9-1EB4-4C9C-AA6F-F95DA7D9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639-E13B-4C8C-B0BF-9DDE1CA9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DA0-B846-4DDD-883B-7B436579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11E-6EE0-4DE2-8C2A-C8B39297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907-375E-4779-9E0D-A8317557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4CB-469C-4F25-9931-62EFF881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F9A71-DDF6-47CA-A519-7B52F38E3C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