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147138"/>
        <c:axId val="8322184"/>
      </c:barChart>
      <c:catAx>
        <c:axId val="741471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2184"/>
        <c:crosses val="autoZero"/>
        <c:auto val="1"/>
        <c:lblAlgn val="ctr"/>
        <c:lblOffset val="100"/>
        <c:noMultiLvlLbl val="0"/>
      </c:catAx>
      <c:valAx>
        <c:axId val="83221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471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08C8-E98F-4C4F-BAC9-40650C00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6B5D-A58C-4803-999C-3E02CF4E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3955-D859-4E90-9ED6-5556169E7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9E44-24E1-47FF-8444-31FF2515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FCB2-92B0-4A99-AB0D-917C8E76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0A78-3EFF-4C3F-A613-E4F3DB03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02BC-FF06-4CBC-88F7-3175BCE8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ADA9-A345-4B80-86F1-DD130161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CCE9-7CB6-4187-9169-B5AE7F19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12D8-2A24-4607-9057-89E3932B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4C74-7F7A-4566-9027-F9E19973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88AA-0DB9-4962-866D-82744D91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D5E74-5194-453D-9ED8-56886DC79E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