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00616"/>
        <c:axId val="35726852"/>
      </c:barChart>
      <c:catAx>
        <c:axId val="96400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26852"/>
        <c:crosses val="autoZero"/>
        <c:auto val="1"/>
        <c:lblAlgn val="ctr"/>
        <c:lblOffset val="100"/>
        <c:noMultiLvlLbl val="0"/>
      </c:catAx>
      <c:valAx>
        <c:axId val="35726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00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60A-6AB8-4AEA-884B-7DF25BD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3A6-2745-416B-A623-65BD5D8B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F00-2AE2-4EE2-B1C3-F3FC4D36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9D2-D77F-4D62-8746-BBDEFA9B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B45-87C2-4DA7-B2B9-7C6D4078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A18-7096-4C4E-AE88-BB6CD92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891-1938-41B0-B29F-E064309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27A-9032-4A61-A75D-3DAB9C3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9B2-E4F0-4F87-91D1-C6260B26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C03-7621-44A0-A4A1-F57165A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FFC-8C1C-401B-AA4F-6B62F89F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145-BB7B-4555-846D-AAAF2C4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DC396-908B-4EF0-8717-FFF55D4CB1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