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0029025"/>
        <c:axId val="40180277"/>
      </c:barChart>
      <c:catAx>
        <c:axId val="2002902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0180277"/>
        <c:crosses val="autoZero"/>
        <c:auto val="1"/>
        <c:lblAlgn val="ctr"/>
        <c:lblOffset val="100"/>
        <c:noMultiLvlLbl val="0"/>
      </c:catAx>
      <c:valAx>
        <c:axId val="4018027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02902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FD5D5-E995-42E5-9C4F-3CA911760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CD8C6-2EB4-414B-95F0-7ED7E64EC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58B2C-A22F-439A-9812-909E3CD73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D4BB7-9189-4061-BC67-BDCFC3893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712FF-117A-4512-98CA-1E0BC49DD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2F034-4412-4C2D-A771-3A581E647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A1BEA-470E-4FCC-9486-9F24691D0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842BB-1539-4D52-AF51-4D8AE3EDD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15BD5-4085-417A-A371-A87A4F228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1BDCA-1CF0-40A3-9757-EFE04D1BF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6188E-D7D1-433D-95E2-F2C7B2AFC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47CC4-3414-4CDF-AB39-FAD755077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69218E-F430-4CBC-A46F-7F2E4B5D422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