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58813"/>
        <c:axId val="81620630"/>
      </c:barChart>
      <c:catAx>
        <c:axId val="97758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20630"/>
        <c:crosses val="autoZero"/>
        <c:auto val="1"/>
        <c:lblAlgn val="ctr"/>
        <c:lblOffset val="100"/>
        <c:noMultiLvlLbl val="0"/>
      </c:catAx>
      <c:valAx>
        <c:axId val="81620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58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0BE-9F41-48C4-9697-FBAD4D99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3D8-18FB-4B74-8899-0803DD51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65D-7F36-4703-AA46-6A1769A5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55F-2EFE-426F-B27E-7431423C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4E4-51ED-4575-B2DA-12225D1A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8F5-C925-4D1E-84EC-5706D52C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9D9-A5B6-4F8E-9C75-6E59AEAE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DBF-F38E-4280-917C-AE40B9DA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024-BA02-42A4-8FEE-0C6DBAFA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F59-8B4F-436B-8C7B-EDBA6EE8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4DC-3DFA-4ADD-9A0A-36B95B93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F17-365E-4757-B742-CAD2A203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1DB51-AB72-48EA-AE0B-F47DB6D282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