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20579"/>
        <c:axId val="52798347"/>
      </c:barChart>
      <c:catAx>
        <c:axId val="57220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98347"/>
        <c:crosses val="autoZero"/>
        <c:auto val="1"/>
        <c:lblAlgn val="ctr"/>
        <c:lblOffset val="100"/>
        <c:noMultiLvlLbl val="0"/>
      </c:catAx>
      <c:valAx>
        <c:axId val="52798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20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2E4-0D81-4727-AE02-EA05A9CA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0A4-A8E1-48A3-9C5C-9A35FD6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00D-7A3E-4F22-BE90-875BAA0E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CA3-647F-4A06-A790-54877861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D1C-555F-4BD0-97DE-63AED23C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2CD-4815-4526-8B7F-4DCBDD3A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D61-1E96-422B-BA49-0D40FD75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DDC-C595-46AE-ACBC-48A7875C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340-5D64-4DDC-AC5E-18A3F4F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71B-8C18-4D36-81EC-D9C049D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DCA-47D5-49ED-BD48-09F97F82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D21-B932-4399-9F34-95A98DB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5FA4D-7047-4863-AA52-E32366691F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