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34447"/>
        <c:axId val="3538275"/>
      </c:barChart>
      <c:catAx>
        <c:axId val="33234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8275"/>
        <c:crosses val="autoZero"/>
        <c:auto val="1"/>
        <c:lblAlgn val="ctr"/>
        <c:lblOffset val="100"/>
        <c:noMultiLvlLbl val="0"/>
      </c:catAx>
      <c:valAx>
        <c:axId val="3538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34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B3EE-5B11-4E21-992C-F4C0E8F3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270-305E-4BC1-BF4E-A23DBFA6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03C-85CA-4656-99B6-FE87F9B2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39F-531C-4FD4-8081-CD428DF5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4E0-9A44-4251-AEB8-21263F9F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1EF-C146-430A-8417-9DC66AD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F84-FB72-4489-9D64-BFAD81B7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E37D-BAE4-4015-AD19-3F41D634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67A-EDF2-45AC-8E3E-CC64036F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018-0969-4C93-828D-40B263EC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3C4-E7DD-4E01-8252-1E7D7E65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0B9-E4F6-491A-A1B9-D65F7F7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2C58-70C3-41F1-88D9-29588976A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