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22495"/>
        <c:axId val="60786646"/>
      </c:barChart>
      <c:catAx>
        <c:axId val="74822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6646"/>
        <c:crosses val="autoZero"/>
        <c:auto val="1"/>
        <c:lblAlgn val="ctr"/>
        <c:lblOffset val="100"/>
        <c:noMultiLvlLbl val="0"/>
      </c:catAx>
      <c:valAx>
        <c:axId val="60786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22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2FC-6D67-4D03-B6AC-AA858300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2E0-AE4B-44BC-9F7E-B3651DA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F87-E3F9-4C16-AF3F-41E95685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F99-3818-461F-BC3F-5E7F152E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DD2-1A99-4EAF-8514-9940F19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038-F204-4E33-B60A-9985C3D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E39-C0CD-4988-BE5D-2714C91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AEA-F0B7-4080-A584-E05FD3EB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E8-1E63-4864-A0F6-EC7E062F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303-CBE5-420D-8CF3-2EDB4E55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839-D574-4B46-B0AD-DEE3F9E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18C-5777-44CB-A83C-76F71C8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B20CF-0F3C-4496-8CDB-6BA3FF8C1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