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496"/>
        <c:axId val="12996759"/>
      </c:barChart>
      <c:catAx>
        <c:axId val="380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6759"/>
        <c:crosses val="autoZero"/>
        <c:auto val="1"/>
        <c:lblAlgn val="ctr"/>
        <c:lblOffset val="100"/>
        <c:noMultiLvlLbl val="0"/>
      </c:catAx>
      <c:valAx>
        <c:axId val="12996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405-863D-47BD-84EA-4364C531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550-F70F-4670-BF12-51BCF9EA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DB7-8AEA-4203-A418-AC7F3CF2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10E-D690-4FF9-B8ED-1337EE10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282-D916-48A5-821C-D1ED384C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238-1FD8-48E6-8345-3EE67389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BF4-7020-4F02-8575-0A03D30E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439-7603-4F28-B7A1-67204A6B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F22-AC96-42E0-AE53-70C42654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52C-9D78-40B0-B2D8-2CCE288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E41-5440-4461-B102-DE2DE211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F25-74CE-45B0-B20B-9A4175B5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65DD7-1305-4EC8-AFA4-947480C5F4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