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3278"/>
        <c:axId val="6294389"/>
      </c:barChart>
      <c:catAx>
        <c:axId val="68153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389"/>
        <c:crosses val="autoZero"/>
        <c:auto val="1"/>
        <c:lblAlgn val="ctr"/>
        <c:lblOffset val="100"/>
        <c:noMultiLvlLbl val="0"/>
      </c:catAx>
      <c:valAx>
        <c:axId val="629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3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257-21C9-4F54-8C0E-DA6EB10C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875-E112-444B-B3F8-52369509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0E9-243C-45A6-9A7A-032DB4CD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A60-41AC-4219-A6A8-BAC15C65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CA4-746D-4B08-9FC8-3A726679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253-15E9-4269-AC44-63D4F87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378-42D9-4B11-B319-D1A1404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2DE-783A-48C7-ACBC-E88F2E5B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5A4-161C-479B-A554-2CF1872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45B-A0FD-4CCA-8A5C-C5270CA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1AF-0C51-40E0-B4A6-A9CAFF7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A90-3860-4203-9ECE-03C0EB8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A451-76D2-4D6C-BEF4-D8277EE4BF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