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17030"/>
        <c:axId val="2508070"/>
      </c:barChart>
      <c:catAx>
        <c:axId val="73317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8070"/>
        <c:crosses val="autoZero"/>
        <c:auto val="1"/>
        <c:lblAlgn val="ctr"/>
        <c:lblOffset val="100"/>
        <c:noMultiLvlLbl val="0"/>
      </c:catAx>
      <c:valAx>
        <c:axId val="2508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17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354-0C7B-4DF5-AB45-4B4CFB3C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B9B-B86D-4157-90D0-B3F911A0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004-D888-4380-A591-FC22C3BA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C6B-2878-46CE-B5AB-30A9B989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203-2DBD-4B44-98EF-CBBD3C72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321-B8D9-44C7-8BBC-ACFD516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031-FE1D-4810-8278-80B3F43D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177-87DF-4F00-BAEC-C4D3DE4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D6A-F1D7-4C8A-AB70-2BE161BF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DF4-71E1-4A3E-8400-F49A28E0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72C-7787-4D4E-93DC-120828E5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4BE-B841-46AA-A5F4-90380145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0A9F9-8B32-4424-B9DE-7480246456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