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69542"/>
        <c:axId val="48600279"/>
      </c:barChart>
      <c:catAx>
        <c:axId val="14695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00279"/>
        <c:crosses val="autoZero"/>
        <c:auto val="1"/>
        <c:lblAlgn val="ctr"/>
        <c:lblOffset val="100"/>
        <c:noMultiLvlLbl val="0"/>
      </c:catAx>
      <c:valAx>
        <c:axId val="486002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95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D1F9-DC56-421B-9F20-769C7E3C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6427-FF19-4755-AD56-DA10E44C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C988-9393-49C4-B77C-4BA02090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D34-4623-4432-A90D-0CB4BF05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586E-CD31-4CFA-A30C-67C76DAF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D2D2-FB0B-49F2-B96D-7CBDC786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E63D-0E15-43D6-94A2-7AE68497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2753-43F4-415B-B8E2-7B3AC3D9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E823-2CE0-402C-85B6-A7B07456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BEA-B753-4D6C-90CA-BE2750E1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B565-58F6-47FD-AADA-24072840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263-235B-4CF0-AFB4-B7F133B5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BBBA3-CD48-4DC4-920A-A6C670F24C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