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24739"/>
        <c:axId val="55310132"/>
      </c:barChart>
      <c:catAx>
        <c:axId val="47424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10132"/>
        <c:crosses val="autoZero"/>
        <c:auto val="1"/>
        <c:lblAlgn val="ctr"/>
        <c:lblOffset val="100"/>
        <c:noMultiLvlLbl val="0"/>
      </c:catAx>
      <c:valAx>
        <c:axId val="55310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24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257-3975-4B14-B404-B9BDA4E5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FA7-08FC-4A16-AC03-04920160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2DD-0717-4528-B82E-421090D0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18B-C9C5-4403-BE28-8973EE57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693-612F-43D6-A489-3C1E9F09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D9D-B292-4C40-88B8-02907BAF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23D-8480-4943-9E32-1AC0ED38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89E-2362-433B-95BC-E610370C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CC4-E0E3-41A6-B5A5-00E88ED2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9A0-DAB0-44E3-9941-5BA94E03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E8F-6C8B-4B16-9039-167FC764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BE1-9B9E-466F-8134-DD51724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DDAAC-1DEA-4C08-B25B-AF02883B5F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