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56910"/>
        <c:axId val="31976539"/>
      </c:barChart>
      <c:catAx>
        <c:axId val="9415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6539"/>
        <c:crosses val="autoZero"/>
        <c:auto val="1"/>
        <c:lblAlgn val="ctr"/>
        <c:lblOffset val="100"/>
        <c:noMultiLvlLbl val="0"/>
      </c:catAx>
      <c:valAx>
        <c:axId val="31976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5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9E7-0C03-4B5C-A40A-D90956D1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24F-596D-46CD-ABA3-74095CB2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95C-980C-4838-848D-2186329B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6F2-3C45-454A-8E2B-508B08CB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FF2-DCA4-440E-A49B-B64764C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ED1-792E-41A6-81DA-C53962B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E53-496D-4C25-AAA3-B5ACF87F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2EA-A25B-49CF-9513-4FB3E89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53E-9180-44E4-AA50-2BB75B2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23D-1119-46C7-A8E4-BF1D9C0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A9C-B55C-4854-B71A-64D50A0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918-2D0F-4A80-B34C-D91C3C8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AE984-2277-4223-B78F-C6C73EA23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