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660008"/>
        <c:axId val="46812378"/>
      </c:barChart>
      <c:catAx>
        <c:axId val="756600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812378"/>
        <c:crosses val="autoZero"/>
        <c:auto val="1"/>
        <c:lblAlgn val="ctr"/>
        <c:lblOffset val="100"/>
        <c:noMultiLvlLbl val="0"/>
      </c:catAx>
      <c:valAx>
        <c:axId val="46812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600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48F7-EBFF-4615-A9DA-266ECB12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318D-27CC-4746-91D4-794D0771A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E44-F2ED-4A28-A3C2-65B32A67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E979-8FE0-4834-B0E1-2AF7B6AF5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593D-F6F2-4F50-BF97-B35C9525E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A1F6-41CC-4735-B86E-29094854A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9262-13F5-4AE4-BBF7-278060E16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826D-AE24-44B2-A1EC-447F7E9B0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5BD7-E72F-4B14-BCBD-BAD380FF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F31A-DD42-4BFD-AA00-FB079174A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3723-8935-4493-8BB9-CEFC670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636E-2B62-4A16-9D77-216D356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1F8DF-D893-4DA0-95A7-8F33932C5E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